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7605-C888-475D-8089-EFB320BE8F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4DC6-00B5-4479-8D3D-865ABFC537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C50-D016-4117-925F-404C302B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2DD-C319-4F3E-A5AC-176D4016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7F7-BB6D-413A-8D5F-22D9221E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170-042F-42A2-849E-B8F409A3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F10E-3FB2-49B8-89CB-8CD10D5F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2537-939F-43A4-BEF4-8AB23138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00B2-194E-420C-BFA3-16766F0C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8566-40B2-4E62-9D19-55E54A56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CCC5-FF94-487F-B39A-38B4306C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C9A5-8D03-4517-B825-09FA5BD2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AEA2-A65A-4BB1-87A0-F45433B8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76C-68CE-40AA-B129-C4641416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82F6-300D-4A35-9EA0-84FD0F4B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0FB0-6FEE-4583-ADB0-2AEC341D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04C6-75AB-4EF3-9F24-9C556A30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6274-FC59-4C66-811F-3B259653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3B83-361B-4DEA-A8A0-E9F580E9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BC0A3-08BB-4559-AF9C-A80B5258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98ED6-9647-4FCC-8E11-5E6A9C35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75818-97F8-4DA4-8260-48E34430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5633A-4E5A-4B4F-8506-B472171E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90F30-D44F-4889-A2BF-47C53F9F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2E8-DF44-4F59-9956-9B990541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2A3B2-156C-4D32-8B25-2F681142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2F0FC-8742-40B7-8EE6-AFF5A194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1A447-BDB3-4C44-A9C7-0889E8AF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C278B-8199-45BE-B030-19F2E0F6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6E2F2-BD37-4503-AD4D-9315A589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8873B-7D77-465F-ACE2-0038E272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A9BAB-BB21-45D2-8E1A-50BB89FC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7CE11-3E80-4B9B-A236-D432581B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038AA-6093-4B4F-9303-230F61A5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DBFA2-B62D-4972-928F-21DF5E6E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40B-0702-4E44-BEE1-1C968809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43EDE-D1B3-4B16-B580-E89CD90F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2CFE3-85A3-4CBB-B185-43B42549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1DE2F-BB72-490C-B12C-E174C649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05235-6691-4E42-AA9F-D571D6E6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ED0B6-0513-4E69-A146-3F81544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E62693-6F88-4299-BE05-5AD46EFE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8B946-D6F5-45E2-8B5E-25997CD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12A89-1412-49DE-8CB4-89AF81A1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715A6-F68E-4B96-9DA4-FFDE3E03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0962C-2FCB-4AF0-BF7D-F1C6335B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410-C195-49C2-A27C-8EFE7306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3B653-7A58-490F-9C27-D151793C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591E1-936C-408F-90E4-1C6EC112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F7B2D-1155-4443-B4AD-DCD6F828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4A6DC-2787-434E-BFF0-655A9C3E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4D74B-0692-41AC-B9CE-41548B39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BC3CC-2F93-4361-BC00-45026486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B3F38-A026-43E7-8D0C-E62F680C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07944-279C-4802-9601-66301001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26A86-9A70-40FE-96B6-061F3848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9E299-FBA9-4E09-A9C9-50EE06D1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7C1-833A-47E7-8F44-F3A4893F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5FC19-1E97-4E24-98BE-16E38F4C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3B40F-8304-4C30-91C5-4B2ABA7E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FE5B9-A778-48C7-90EF-CA99B1C6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5AC12-85D3-4BDA-BA92-912295FD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7EE0-8D3A-4CCC-A3CD-BA3849A5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6FA10-A2E8-4163-9D1F-BA88FF91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A4FBE-CC12-486A-9B9A-259891B1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AF5E-ED1A-4A5D-91E1-4A9B5C23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37947-BB0D-4D8B-89CC-0F890687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47E44-53D0-4FA8-94F6-0598D2DF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FCE-BCA2-4980-AF60-4B858602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A2F38-80E1-4718-BFA7-C2F73C6D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66426-6AAC-487C-94F6-79BD0247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65F80-D268-4ED6-80C7-757209E3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28762-D383-496A-AF7E-8BF47A23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66A46-5EAB-4C25-B182-7456EF90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16A93F-26B8-454D-BEBF-3CC145CB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06EA4-09E6-4619-A733-400A8A22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F4A93-EF21-4950-8BB0-F504218B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38868-E574-4F8A-B4E4-3091D149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855F2-0C57-4344-A114-92FFB510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99B-75DC-4825-8A2A-EB5CBA2B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BF7C3-BC77-4C42-8F7D-31EE0CA8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DB75E-EABD-4FBF-A47F-61C0FC10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CFC77-FBF4-4AD0-9E8A-75A71AE9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ED40B-8EEA-4C38-AC05-92F54EA8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D1AC2-5DD4-45D5-A21C-833B4627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022A0-C67A-4BB7-BD3E-A363017F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3F2F3-03BF-4170-8990-B76B401D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9CF06-738B-482E-AA41-B81ED412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008C0-359C-4F4C-ACDC-F058BD55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A3ED9-5F84-4CE1-AFBB-CFB848C5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6F6-E93F-4F37-8D16-390539CB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9F63F-5C3C-4DD9-86C7-056DA1F3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FD375-C6CA-454B-A5CF-43577CD5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15EAB-5D81-47EF-B483-A263A510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D0E8A-462A-49C0-8431-97C51FF1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51E0F-2780-4162-BE96-E95B4EC8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3D42B-14B9-4A1E-8136-EBFA04FF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15F7B-45A8-4238-9DF5-95EFF8CE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03E1-44B5-4578-B6F8-22D049E94F26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A747-73BD-410F-A570-E56EFE00A9B6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F6CB-6E59-487D-81D1-24C9C34B8C39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C28B-9D8A-4338-B0C7-2D4DB4299C2D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E7C9-281F-4330-A44E-EB004BD2AC76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1D5B-C6E6-496F-8B70-25234AC79B38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6773-26B5-439A-95F5-CBCACD1B5A4F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D4F4-9446-4C86-B6A4-3C74A5C14405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dc3"/>
                </a:solidFill>
                <a:latin typeface="Tw Cen MT"/>
              </a:rPr>
              <a:t>TEMA 12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w Cen MT"/>
              </a:rPr>
              <a:t>Consecuencias del movimiento de las placa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w Cen MT"/>
              </a:rPr>
              <a:t>CICLO DE WILSON </a:t>
            </a:r>
            <a:r>
              <a:rPr b="1" lang="es-ES" sz="44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Los procesos de tectónica de placas pueden resumirse en un esquema secuencial que se conoce como </a:t>
            </a: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CICLO DE WILSON. Estos procesos pueden observarse en diferentes zonas del planeta. </a:t>
            </a: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1.- ( Esquema 1 y 2)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428840"/>
            <a:ext cx="3257640" cy="46972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w Cen MT"/>
              </a:rPr>
              <a:t>El ciclo comienza con la fragmentación de un continente debido a la acción de un punto caliente. Esto provoca adelgazamiento y fracturación de la litosfera. Aparece entonces un Rift, que ira evolucionando y rellenándose de agua. En la actualidad esto está ocurriendo en el Rift African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4129200" y="2081160"/>
            <a:ext cx="286704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5 Rectángulo"/>
          <p:cNvSpPr/>
          <p:nvPr/>
        </p:nvSpPr>
        <p:spPr>
          <a:xfrm>
            <a:off x="428760" y="1643040"/>
            <a:ext cx="692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w Cen MT"/>
              </a:rPr>
              <a:t>2.- La segunda fase del Ciclo del Wilson es la Expansión del fondo oceánico a ambos lados de la Dors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w Cen MT"/>
              </a:rPr>
              <a:t>( Esquema 3). En la actualidad esto puede observarse en el Océano Atlán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w Cen MT"/>
              </a:rPr>
              <a:t>La Isla de Islandia es una cresta de la dorsal Atlántica que sobresale del agua, por lo tanto en esta Isla pueden observarse una serie de volcanes fisurales que la atraviesan y la expanden a ambos l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3.- A medida que la dorsal va expandiendo el océano la corteza se irá enfriando a ambos lados de la dorsal y se van depositando materiales en los márgenes continentales. La presión hará que la corteza oceánica se fracture y se hunda por debajo de la corteza continental menos densa o de otra corteza oceánica ( Ver tipos de subducción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( Esquema 4). Esto ocurre en el Océano Pacífico. </a:t>
            </a: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w Cen MT"/>
              </a:rPr>
              <a:t>4.- La subducción provocará la formación de montañas en los bordes continentales o de arcos de islas en los suelos oceánicos que serán zonas de gran actividad sísmica y volcánica. ( Esquema 4 y 5). Es el caso del Océano Pacífico y Sudamérica, con la formación de la Cordillera de los Andes. También en algunas zonas los desplazamientos en diferentes direcciones de las placas provocan fallas como la de San Andrés en California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5.- Cuando la dorsal se aproxima a la costa, se introduce ella misma por subdución y comienza el cierre. Al colisionar los continentes se producen montañas intracontinentales de grandes alturas. (Esquema 6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( </a:t>
            </a: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OBDUCCIÓN). ( Es el caso del Himalaya). </a:t>
            </a: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429760" cy="56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5f55"/>
                </a:solidFill>
                <a:latin typeface="Tw Cen MT"/>
              </a:rPr>
              <a:t>Consecuencias del movimiento de las placa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Pliegu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Fall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Diaclas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w Cen MT"/>
              </a:rPr>
              <a:t>Cordilleras: pericontinentales , intercontinentales  y arco isla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dc3"/>
                </a:solidFill>
                <a:latin typeface="Tw Cen MT"/>
              </a:rPr>
              <a:t>DINÁMICA LITOSFÉRICA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w Cen MT"/>
              </a:rPr>
              <a:t>Deformaciones corticales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78"/>
          <p:cNvSpPr/>
          <p:nvPr/>
        </p:nvSpPr>
        <p:spPr>
          <a:xfrm>
            <a:off x="2428920" y="71424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MMedium"/>
              </a:rPr>
              <a:t>Tipos de defor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79"/>
          <p:cNvGrpSpPr/>
          <p:nvPr/>
        </p:nvGrpSpPr>
        <p:grpSpPr>
          <a:xfrm>
            <a:off x="170280" y="1850040"/>
            <a:ext cx="5110920" cy="4123440"/>
            <a:chOff x="170280" y="1850040"/>
            <a:chExt cx="5110920" cy="4123440"/>
          </a:xfrm>
        </p:grpSpPr>
        <p:pic>
          <p:nvPicPr>
            <p:cNvPr id="365" name="Picture 80" descr="C:\dibujossm\Geología 17\t17-2a.jpg"/>
            <p:cNvPicPr/>
            <p:nvPr/>
          </p:nvPicPr>
          <p:blipFill>
            <a:blip r:embed="rId1"/>
            <a:stretch/>
          </p:blipFill>
          <p:spPr>
            <a:xfrm>
              <a:off x="904680" y="2163960"/>
              <a:ext cx="4305240" cy="31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Group 81"/>
            <p:cNvGrpSpPr/>
            <p:nvPr/>
          </p:nvGrpSpPr>
          <p:grpSpPr>
            <a:xfrm>
              <a:off x="565560" y="2139840"/>
              <a:ext cx="4612680" cy="3432960"/>
              <a:chOff x="565560" y="2139840"/>
              <a:chExt cx="4612680" cy="3432960"/>
            </a:xfrm>
          </p:grpSpPr>
          <p:sp>
            <p:nvSpPr>
              <p:cNvPr id="367" name="Rectangle 82"/>
              <p:cNvSpPr/>
              <p:nvPr/>
            </p:nvSpPr>
            <p:spPr>
              <a:xfrm>
                <a:off x="710280" y="530244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83"/>
              <p:cNvSpPr/>
              <p:nvPr/>
            </p:nvSpPr>
            <p:spPr>
              <a:xfrm>
                <a:off x="1662840" y="53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84"/>
              <p:cNvSpPr/>
              <p:nvPr/>
            </p:nvSpPr>
            <p:spPr>
              <a:xfrm>
                <a:off x="2480400" y="53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85"/>
              <p:cNvSpPr/>
              <p:nvPr/>
            </p:nvSpPr>
            <p:spPr>
              <a:xfrm>
                <a:off x="3299760" y="53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86"/>
              <p:cNvSpPr/>
              <p:nvPr/>
            </p:nvSpPr>
            <p:spPr>
              <a:xfrm>
                <a:off x="4118760" y="53593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87"/>
              <p:cNvSpPr/>
              <p:nvPr/>
            </p:nvSpPr>
            <p:spPr>
              <a:xfrm>
                <a:off x="4888440" y="535932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88"/>
              <p:cNvSpPr/>
              <p:nvPr/>
            </p:nvSpPr>
            <p:spPr>
              <a:xfrm>
                <a:off x="584640" y="441648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89"/>
              <p:cNvSpPr/>
              <p:nvPr/>
            </p:nvSpPr>
            <p:spPr>
              <a:xfrm>
                <a:off x="575280" y="367344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90"/>
              <p:cNvSpPr/>
              <p:nvPr/>
            </p:nvSpPr>
            <p:spPr>
              <a:xfrm>
                <a:off x="565560" y="293076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91"/>
              <p:cNvSpPr/>
              <p:nvPr/>
            </p:nvSpPr>
            <p:spPr>
              <a:xfrm>
                <a:off x="565560" y="219708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w Cen MT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2"/>
              <p:cNvSpPr/>
              <p:nvPr/>
            </p:nvSpPr>
            <p:spPr>
              <a:xfrm>
                <a:off x="893520" y="2139840"/>
                <a:ext cx="4284720" cy="3171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93"/>
              <p:cNvSpPr/>
              <p:nvPr/>
            </p:nvSpPr>
            <p:spPr>
              <a:xfrm flipV="1">
                <a:off x="846000" y="5311800"/>
                <a:ext cx="4752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94"/>
              <p:cNvSpPr/>
              <p:nvPr/>
            </p:nvSpPr>
            <p:spPr>
              <a:xfrm>
                <a:off x="826920" y="4568760"/>
                <a:ext cx="66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95"/>
              <p:cNvSpPr/>
              <p:nvPr/>
            </p:nvSpPr>
            <p:spPr>
              <a:xfrm flipV="1">
                <a:off x="1712520" y="532152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96"/>
              <p:cNvSpPr/>
              <p:nvPr/>
            </p:nvSpPr>
            <p:spPr>
              <a:xfrm flipV="1">
                <a:off x="2530080" y="532152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97"/>
              <p:cNvSpPr/>
              <p:nvPr/>
            </p:nvSpPr>
            <p:spPr>
              <a:xfrm flipV="1">
                <a:off x="3339720" y="532152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98"/>
              <p:cNvSpPr/>
              <p:nvPr/>
            </p:nvSpPr>
            <p:spPr>
              <a:xfrm flipV="1">
                <a:off x="4159080" y="5321520"/>
                <a:ext cx="14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99"/>
              <p:cNvSpPr/>
              <p:nvPr/>
            </p:nvSpPr>
            <p:spPr>
              <a:xfrm flipV="1">
                <a:off x="4978080" y="532152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00"/>
              <p:cNvSpPr/>
              <p:nvPr/>
            </p:nvSpPr>
            <p:spPr>
              <a:xfrm>
                <a:off x="826920" y="382608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01"/>
              <p:cNvSpPr/>
              <p:nvPr/>
            </p:nvSpPr>
            <p:spPr>
              <a:xfrm>
                <a:off x="826920" y="308304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02"/>
              <p:cNvSpPr/>
              <p:nvPr/>
            </p:nvSpPr>
            <p:spPr>
              <a:xfrm>
                <a:off x="826920" y="2349720"/>
                <a:ext cx="66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03"/>
            <p:cNvSpPr/>
            <p:nvPr/>
          </p:nvSpPr>
          <p:spPr>
            <a:xfrm>
              <a:off x="836280" y="1850040"/>
              <a:ext cx="444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w Cen MT"/>
                </a:rPr>
                <a:t>RELACIÓN ENTRE ESFUERZO Y DE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04"/>
            <p:cNvSpPr/>
            <p:nvPr/>
          </p:nvSpPr>
          <p:spPr>
            <a:xfrm>
              <a:off x="2477880" y="5453280"/>
              <a:ext cx="153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Deformación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05"/>
            <p:cNvSpPr/>
            <p:nvPr/>
          </p:nvSpPr>
          <p:spPr>
            <a:xfrm rot="16200000">
              <a:off x="-441000" y="3356280"/>
              <a:ext cx="153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Esfuerzo (kb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06"/>
          <p:cNvSpPr/>
          <p:nvPr/>
        </p:nvSpPr>
        <p:spPr>
          <a:xfrm>
            <a:off x="5702400" y="1696680"/>
            <a:ext cx="301608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TIPOS DE DEFORM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7"/>
          <p:cNvSpPr/>
          <p:nvPr/>
        </p:nvSpPr>
        <p:spPr>
          <a:xfrm>
            <a:off x="5452920" y="2347560"/>
            <a:ext cx="1022400" cy="337320"/>
          </a:xfrm>
          <a:prstGeom prst="rect">
            <a:avLst/>
          </a:prstGeom>
          <a:solidFill>
            <a:srgbClr val="a3f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08"/>
          <p:cNvSpPr/>
          <p:nvPr/>
        </p:nvSpPr>
        <p:spPr>
          <a:xfrm>
            <a:off x="5452920" y="3585960"/>
            <a:ext cx="2003400" cy="337320"/>
          </a:xfrm>
          <a:prstGeom prst="rect">
            <a:avLst/>
          </a:prstGeom>
          <a:solidFill>
            <a:srgbClr val="a3f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Plástica o dúct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9"/>
          <p:cNvSpPr/>
          <p:nvPr/>
        </p:nvSpPr>
        <p:spPr>
          <a:xfrm>
            <a:off x="5452920" y="4613040"/>
            <a:ext cx="1571760" cy="337320"/>
          </a:xfrm>
          <a:prstGeom prst="rect">
            <a:avLst/>
          </a:prstGeom>
          <a:solidFill>
            <a:srgbClr val="a3f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Por ro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0"/>
          <p:cNvSpPr/>
          <p:nvPr/>
        </p:nvSpPr>
        <p:spPr>
          <a:xfrm>
            <a:off x="5452920" y="2662200"/>
            <a:ext cx="3373560" cy="946440"/>
          </a:xfrm>
          <a:prstGeom prst="rect">
            <a:avLst/>
          </a:prstGeom>
          <a:solidFill>
            <a:srgbClr val="f8f6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l material se deforma al ser sometido a un esfuerzo pero recupera su forma y volumen cuando este c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1"/>
          <p:cNvSpPr/>
          <p:nvPr/>
        </p:nvSpPr>
        <p:spPr>
          <a:xfrm>
            <a:off x="5452920" y="4008960"/>
            <a:ext cx="3373560" cy="520200"/>
          </a:xfrm>
          <a:prstGeom prst="rect">
            <a:avLst/>
          </a:prstGeom>
          <a:solidFill>
            <a:srgbClr val="f8f6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La deformación permanece después de haber cesado el esfuerz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12"/>
          <p:cNvSpPr/>
          <p:nvPr/>
        </p:nvSpPr>
        <p:spPr>
          <a:xfrm>
            <a:off x="5452920" y="5036040"/>
            <a:ext cx="3373560" cy="520200"/>
          </a:xfrm>
          <a:prstGeom prst="rect">
            <a:avLst/>
          </a:prstGeom>
          <a:solidFill>
            <a:srgbClr val="f8f6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l esfuerzo hace perder la cohesión interna del material y se fract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13" descr="C:\dibujossm\Geología 17\t17-2a.WMF"/>
          <p:cNvPicPr/>
          <p:nvPr/>
        </p:nvPicPr>
        <p:blipFill>
          <a:blip r:embed="rId2"/>
          <a:stretch/>
        </p:blipFill>
        <p:spPr>
          <a:xfrm>
            <a:off x="2379600" y="2652840"/>
            <a:ext cx="2828880" cy="952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14" descr="C:\dibujossm\Geología 17\t17-2b.WMF"/>
          <p:cNvPicPr/>
          <p:nvPr/>
        </p:nvPicPr>
        <p:blipFill>
          <a:blip r:embed="rId3"/>
          <a:stretch/>
        </p:blipFill>
        <p:spPr>
          <a:xfrm>
            <a:off x="812880" y="3382920"/>
            <a:ext cx="1790640" cy="20383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15"/>
          <p:cNvSpPr/>
          <p:nvPr/>
        </p:nvSpPr>
        <p:spPr>
          <a:xfrm rot="18683400">
            <a:off x="612720" y="4078440"/>
            <a:ext cx="20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Deformación elá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16"/>
          <p:cNvSpPr/>
          <p:nvPr/>
        </p:nvSpPr>
        <p:spPr>
          <a:xfrm rot="20850000">
            <a:off x="2882880" y="2600280"/>
            <a:ext cx="186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Deformación plá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17"/>
          <p:cNvGrpSpPr/>
          <p:nvPr/>
        </p:nvGrpSpPr>
        <p:grpSpPr>
          <a:xfrm>
            <a:off x="965160" y="2636640"/>
            <a:ext cx="1616040" cy="923760"/>
            <a:chOff x="965160" y="2636640"/>
            <a:chExt cx="1616040" cy="923760"/>
          </a:xfrm>
        </p:grpSpPr>
        <p:sp>
          <p:nvSpPr>
            <p:cNvPr id="403" name="Text Box 118"/>
            <p:cNvSpPr/>
            <p:nvPr/>
          </p:nvSpPr>
          <p:spPr>
            <a:xfrm>
              <a:off x="965160" y="2636640"/>
              <a:ext cx="161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Límite de elastic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119"/>
            <p:cNvGrpSpPr/>
            <p:nvPr/>
          </p:nvGrpSpPr>
          <p:grpSpPr>
            <a:xfrm>
              <a:off x="1987200" y="2949120"/>
              <a:ext cx="567720" cy="611280"/>
              <a:chOff x="1987200" y="2949120"/>
              <a:chExt cx="567720" cy="611280"/>
            </a:xfrm>
          </p:grpSpPr>
          <p:sp>
            <p:nvSpPr>
              <p:cNvPr id="405" name="Line 120"/>
              <p:cNvSpPr/>
              <p:nvPr/>
            </p:nvSpPr>
            <p:spPr>
              <a:xfrm>
                <a:off x="1987200" y="2949120"/>
                <a:ext cx="491760" cy="532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121"/>
              <p:cNvSpPr/>
              <p:nvPr/>
            </p:nvSpPr>
            <p:spPr>
              <a:xfrm>
                <a:off x="2434680" y="3439800"/>
                <a:ext cx="120240" cy="120600"/>
              </a:xfrm>
              <a:prstGeom prst="ellips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Group 122"/>
          <p:cNvGrpSpPr/>
          <p:nvPr/>
        </p:nvGrpSpPr>
        <p:grpSpPr>
          <a:xfrm>
            <a:off x="3780000" y="2716200"/>
            <a:ext cx="1365840" cy="928800"/>
            <a:chOff x="3780000" y="2716200"/>
            <a:chExt cx="1365840" cy="928800"/>
          </a:xfrm>
        </p:grpSpPr>
        <p:sp>
          <p:nvSpPr>
            <p:cNvPr id="408" name="Text Box 123"/>
            <p:cNvSpPr/>
            <p:nvPr/>
          </p:nvSpPr>
          <p:spPr>
            <a:xfrm>
              <a:off x="3780000" y="3186000"/>
              <a:ext cx="131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Límite de ro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124"/>
            <p:cNvGrpSpPr/>
            <p:nvPr/>
          </p:nvGrpSpPr>
          <p:grpSpPr>
            <a:xfrm>
              <a:off x="4544280" y="2716200"/>
              <a:ext cx="601560" cy="622440"/>
              <a:chOff x="4544280" y="2716200"/>
              <a:chExt cx="601560" cy="622440"/>
            </a:xfrm>
          </p:grpSpPr>
          <p:sp>
            <p:nvSpPr>
              <p:cNvPr id="410" name="Line 125"/>
              <p:cNvSpPr/>
              <p:nvPr/>
            </p:nvSpPr>
            <p:spPr>
              <a:xfrm flipH="1">
                <a:off x="4544280" y="2774880"/>
                <a:ext cx="547560" cy="563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126"/>
              <p:cNvSpPr/>
              <p:nvPr/>
            </p:nvSpPr>
            <p:spPr>
              <a:xfrm>
                <a:off x="5025600" y="2716200"/>
                <a:ext cx="120240" cy="120600"/>
              </a:xfrm>
              <a:prstGeom prst="ellips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78"/>
          <p:cNvSpPr/>
          <p:nvPr/>
        </p:nvSpPr>
        <p:spPr>
          <a:xfrm>
            <a:off x="2286000" y="5716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MMedium"/>
              </a:rPr>
              <a:t>Deformaciones plásticas: los plie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9"/>
          <p:cNvSpPr/>
          <p:nvPr/>
        </p:nvSpPr>
        <p:spPr>
          <a:xfrm>
            <a:off x="212760" y="1128240"/>
            <a:ext cx="871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w Cen MT"/>
              </a:rPr>
              <a:t>Los </a:t>
            </a: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pliegues</a:t>
            </a:r>
            <a:r>
              <a:rPr b="0" lang="es-ES_tradnl" sz="1600" spc="-1" strike="noStrike">
                <a:solidFill>
                  <a:srgbClr val="000000"/>
                </a:solidFill>
                <a:latin typeface="Tw Cen MT"/>
              </a:rPr>
              <a:t> son flexiones u ondulaciones que presentan las masas de ro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80" descr="C:\dibujossm\Geología 17\t17-3a.jpg"/>
          <p:cNvPicPr/>
          <p:nvPr/>
        </p:nvPicPr>
        <p:blipFill>
          <a:blip r:embed="rId1"/>
          <a:stretch/>
        </p:blipFill>
        <p:spPr>
          <a:xfrm>
            <a:off x="4998960" y="2000160"/>
            <a:ext cx="3821040" cy="2333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1" descr="C:\dibujossm\Geología 17\t17-3b.jpg"/>
          <p:cNvPicPr/>
          <p:nvPr/>
        </p:nvPicPr>
        <p:blipFill>
          <a:blip r:embed="rId2"/>
          <a:stretch/>
        </p:blipFill>
        <p:spPr>
          <a:xfrm>
            <a:off x="326880" y="3575160"/>
            <a:ext cx="3603600" cy="28288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82"/>
          <p:cNvSpPr/>
          <p:nvPr/>
        </p:nvSpPr>
        <p:spPr>
          <a:xfrm>
            <a:off x="393840" y="220140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Direc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3"/>
          <p:cNvSpPr/>
          <p:nvPr/>
        </p:nvSpPr>
        <p:spPr>
          <a:xfrm>
            <a:off x="190440" y="27633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Buzami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4"/>
          <p:cNvSpPr/>
          <p:nvPr/>
        </p:nvSpPr>
        <p:spPr>
          <a:xfrm>
            <a:off x="1447920" y="2117880"/>
            <a:ext cx="3450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Ángulo que forma una horizontal  contenida en el estrato con la línea norte-s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5"/>
          <p:cNvSpPr/>
          <p:nvPr/>
        </p:nvSpPr>
        <p:spPr>
          <a:xfrm>
            <a:off x="1433520" y="2787840"/>
            <a:ext cx="345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Ángulo que forma la superficie del estrato con un plano horizont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6"/>
          <p:cNvSpPr/>
          <p:nvPr/>
        </p:nvSpPr>
        <p:spPr>
          <a:xfrm>
            <a:off x="1758960" y="4713120"/>
            <a:ext cx="64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Flan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rc 87"/>
          <p:cNvSpPr/>
          <p:nvPr/>
        </p:nvSpPr>
        <p:spPr>
          <a:xfrm>
            <a:off x="1822320" y="4268880"/>
            <a:ext cx="133560" cy="204840"/>
          </a:xfrm>
          <a:prstGeom prst="pie">
            <a:avLst/>
          </a:prstGeom>
          <a:noFill/>
          <a:ln w="15840">
            <a:solidFill>
              <a:srgbClr val="775f55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88"/>
          <p:cNvGrpSpPr/>
          <p:nvPr/>
        </p:nvGrpSpPr>
        <p:grpSpPr>
          <a:xfrm>
            <a:off x="1279440" y="4433760"/>
            <a:ext cx="1744920" cy="403560"/>
            <a:chOff x="1279440" y="4433760"/>
            <a:chExt cx="1744920" cy="403560"/>
          </a:xfrm>
        </p:grpSpPr>
        <p:sp>
          <p:nvSpPr>
            <p:cNvPr id="423" name="Line 89"/>
            <p:cNvSpPr/>
            <p:nvPr/>
          </p:nvSpPr>
          <p:spPr>
            <a:xfrm>
              <a:off x="1279440" y="4433760"/>
              <a:ext cx="1295280" cy="11412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90"/>
            <p:cNvSpPr/>
            <p:nvPr/>
          </p:nvSpPr>
          <p:spPr>
            <a:xfrm rot="268800">
              <a:off x="1472760" y="4501080"/>
              <a:ext cx="154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Línea de charn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1"/>
          <p:cNvGrpSpPr/>
          <p:nvPr/>
        </p:nvGrpSpPr>
        <p:grpSpPr>
          <a:xfrm>
            <a:off x="1274760" y="3845520"/>
            <a:ext cx="1400760" cy="590400"/>
            <a:chOff x="1274760" y="3845520"/>
            <a:chExt cx="1400760" cy="590400"/>
          </a:xfrm>
        </p:grpSpPr>
        <p:sp>
          <p:nvSpPr>
            <p:cNvPr id="426" name="Line 92"/>
            <p:cNvSpPr/>
            <p:nvPr/>
          </p:nvSpPr>
          <p:spPr>
            <a:xfrm flipV="1">
              <a:off x="1274760" y="4071600"/>
              <a:ext cx="1386000" cy="35712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93"/>
            <p:cNvSpPr/>
            <p:nvPr/>
          </p:nvSpPr>
          <p:spPr>
            <a:xfrm rot="20785800">
              <a:off x="1292040" y="4002120"/>
              <a:ext cx="136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Horizon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94"/>
          <p:cNvGrpSpPr/>
          <p:nvPr/>
        </p:nvGrpSpPr>
        <p:grpSpPr>
          <a:xfrm>
            <a:off x="458640" y="4090320"/>
            <a:ext cx="806400" cy="353160"/>
            <a:chOff x="458640" y="4090320"/>
            <a:chExt cx="806400" cy="353160"/>
          </a:xfrm>
        </p:grpSpPr>
        <p:sp>
          <p:nvSpPr>
            <p:cNvPr id="429" name="Text Box 95"/>
            <p:cNvSpPr/>
            <p:nvPr/>
          </p:nvSpPr>
          <p:spPr>
            <a:xfrm>
              <a:off x="458640" y="4090320"/>
              <a:ext cx="64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Cre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96"/>
            <p:cNvSpPr/>
            <p:nvPr/>
          </p:nvSpPr>
          <p:spPr>
            <a:xfrm>
              <a:off x="1045800" y="4281480"/>
              <a:ext cx="219240" cy="16200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97"/>
          <p:cNvGrpSpPr/>
          <p:nvPr/>
        </p:nvGrpSpPr>
        <p:grpSpPr>
          <a:xfrm>
            <a:off x="552600" y="5576400"/>
            <a:ext cx="774360" cy="593640"/>
            <a:chOff x="552600" y="5576400"/>
            <a:chExt cx="774360" cy="593640"/>
          </a:xfrm>
        </p:grpSpPr>
        <p:sp>
          <p:nvSpPr>
            <p:cNvPr id="432" name="Text Box 98"/>
            <p:cNvSpPr/>
            <p:nvPr/>
          </p:nvSpPr>
          <p:spPr>
            <a:xfrm>
              <a:off x="552600" y="5893560"/>
              <a:ext cx="77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Núcl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99"/>
            <p:cNvSpPr/>
            <p:nvPr/>
          </p:nvSpPr>
          <p:spPr>
            <a:xfrm flipV="1">
              <a:off x="943560" y="5576400"/>
              <a:ext cx="331920" cy="38124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100"/>
          <p:cNvSpPr/>
          <p:nvPr/>
        </p:nvSpPr>
        <p:spPr>
          <a:xfrm>
            <a:off x="2687760" y="3531600"/>
            <a:ext cx="13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Plano ax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01"/>
          <p:cNvGrpSpPr/>
          <p:nvPr/>
        </p:nvGrpSpPr>
        <p:grpSpPr>
          <a:xfrm>
            <a:off x="6119640" y="2528640"/>
            <a:ext cx="1564920" cy="686160"/>
            <a:chOff x="6119640" y="2528640"/>
            <a:chExt cx="1564920" cy="686160"/>
          </a:xfrm>
        </p:grpSpPr>
        <p:grpSp>
          <p:nvGrpSpPr>
            <p:cNvPr id="436" name="Group 102"/>
            <p:cNvGrpSpPr/>
            <p:nvPr/>
          </p:nvGrpSpPr>
          <p:grpSpPr>
            <a:xfrm>
              <a:off x="6311160" y="2528640"/>
              <a:ext cx="1373400" cy="686160"/>
              <a:chOff x="6311160" y="2528640"/>
              <a:chExt cx="1373400" cy="686160"/>
            </a:xfrm>
          </p:grpSpPr>
          <p:sp>
            <p:nvSpPr>
              <p:cNvPr id="437" name="Line 103"/>
              <p:cNvSpPr/>
              <p:nvPr/>
            </p:nvSpPr>
            <p:spPr>
              <a:xfrm flipH="1" flipV="1">
                <a:off x="6433560" y="2528640"/>
                <a:ext cx="1228680" cy="677880"/>
              </a:xfrm>
              <a:prstGeom prst="line">
                <a:avLst/>
              </a:prstGeom>
              <a:ln w="19080">
                <a:solidFill>
                  <a:srgbClr val="775f55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04"/>
              <p:cNvSpPr/>
              <p:nvPr/>
            </p:nvSpPr>
            <p:spPr>
              <a:xfrm flipH="1" flipV="1">
                <a:off x="6311160" y="2998800"/>
                <a:ext cx="1373400" cy="216000"/>
              </a:xfrm>
              <a:prstGeom prst="line">
                <a:avLst/>
              </a:prstGeom>
              <a:ln w="19080">
                <a:solidFill>
                  <a:srgbClr val="775f55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rc 105"/>
              <p:cNvSpPr/>
              <p:nvPr/>
            </p:nvSpPr>
            <p:spPr>
              <a:xfrm flipH="1">
                <a:off x="7217280" y="3005280"/>
                <a:ext cx="95400" cy="142920"/>
              </a:xfrm>
              <a:prstGeom prst="pie">
                <a:avLst/>
              </a:prstGeom>
              <a:noFill/>
              <a:ln w="15840">
                <a:solidFill>
                  <a:srgbClr val="775f55"/>
                </a:solidFill>
                <a:round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Text Box 106"/>
            <p:cNvSpPr/>
            <p:nvPr/>
          </p:nvSpPr>
          <p:spPr>
            <a:xfrm>
              <a:off x="6119640" y="2665440"/>
              <a:ext cx="9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Buz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07"/>
          <p:cNvGrpSpPr/>
          <p:nvPr/>
        </p:nvGrpSpPr>
        <p:grpSpPr>
          <a:xfrm>
            <a:off x="7535880" y="2168280"/>
            <a:ext cx="1057320" cy="654840"/>
            <a:chOff x="7535880" y="2168280"/>
            <a:chExt cx="1057320" cy="654840"/>
          </a:xfrm>
        </p:grpSpPr>
        <p:sp>
          <p:nvSpPr>
            <p:cNvPr id="442" name="Line 108"/>
            <p:cNvSpPr/>
            <p:nvPr/>
          </p:nvSpPr>
          <p:spPr>
            <a:xfrm flipV="1">
              <a:off x="7535880" y="2168280"/>
              <a:ext cx="374760" cy="64908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09"/>
            <p:cNvSpPr/>
            <p:nvPr/>
          </p:nvSpPr>
          <p:spPr>
            <a:xfrm>
              <a:off x="7608960" y="2546640"/>
              <a:ext cx="9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w Cen MT"/>
                </a:rPr>
                <a:t>Dire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10"/>
          <p:cNvSpPr/>
          <p:nvPr/>
        </p:nvSpPr>
        <p:spPr>
          <a:xfrm>
            <a:off x="3919680" y="51652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Charne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11"/>
          <p:cNvSpPr/>
          <p:nvPr/>
        </p:nvSpPr>
        <p:spPr>
          <a:xfrm>
            <a:off x="3919680" y="49017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Flanc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2"/>
          <p:cNvSpPr/>
          <p:nvPr/>
        </p:nvSpPr>
        <p:spPr>
          <a:xfrm>
            <a:off x="3919680" y="4444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Plano axi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3"/>
          <p:cNvSpPr/>
          <p:nvPr/>
        </p:nvSpPr>
        <p:spPr>
          <a:xfrm>
            <a:off x="5221440" y="518040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zona de máxima curvat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4"/>
          <p:cNvSpPr/>
          <p:nvPr/>
        </p:nvSpPr>
        <p:spPr>
          <a:xfrm>
            <a:off x="5221440" y="491544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zonas a ambos lados de la charne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5"/>
          <p:cNvSpPr/>
          <p:nvPr/>
        </p:nvSpPr>
        <p:spPr>
          <a:xfrm>
            <a:off x="5221440" y="4472280"/>
            <a:ext cx="35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divide al pliegue en dos mitades lo más simétricas posi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6"/>
          <p:cNvSpPr/>
          <p:nvPr/>
        </p:nvSpPr>
        <p:spPr>
          <a:xfrm>
            <a:off x="3919680" y="5479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Cabec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7"/>
          <p:cNvSpPr/>
          <p:nvPr/>
        </p:nvSpPr>
        <p:spPr>
          <a:xfrm>
            <a:off x="5221440" y="5493240"/>
            <a:ext cx="34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ángulo que forma el eje del pliegue con la horizontal en el pl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18"/>
          <p:cNvSpPr/>
          <p:nvPr/>
        </p:nvSpPr>
        <p:spPr>
          <a:xfrm>
            <a:off x="3919680" y="59464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Núcl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19"/>
          <p:cNvSpPr/>
          <p:nvPr/>
        </p:nvSpPr>
        <p:spPr>
          <a:xfrm>
            <a:off x="5221440" y="597420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la parte más interna del plie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20"/>
          <p:cNvSpPr/>
          <p:nvPr/>
        </p:nvSpPr>
        <p:spPr>
          <a:xfrm>
            <a:off x="3919680" y="62193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Cres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1"/>
          <p:cNvSpPr/>
          <p:nvPr/>
        </p:nvSpPr>
        <p:spPr>
          <a:xfrm>
            <a:off x="5221440" y="6248880"/>
            <a:ext cx="33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la zona más alta de un plie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22"/>
          <p:cNvSpPr/>
          <p:nvPr/>
        </p:nvSpPr>
        <p:spPr>
          <a:xfrm>
            <a:off x="3394080" y="4131360"/>
            <a:ext cx="415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w Cen MT"/>
              </a:rPr>
              <a:t>ELEMENTOS GEOMÉTRICOS DE UN PLIE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23"/>
          <p:cNvSpPr/>
          <p:nvPr/>
        </p:nvSpPr>
        <p:spPr>
          <a:xfrm>
            <a:off x="1822320" y="423792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Cabe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24"/>
          <p:cNvSpPr/>
          <p:nvPr/>
        </p:nvSpPr>
        <p:spPr>
          <a:xfrm>
            <a:off x="334800" y="1481400"/>
            <a:ext cx="8401320" cy="520200"/>
          </a:xfrm>
          <a:prstGeom prst="rect">
            <a:avLst/>
          </a:prstGeom>
          <a:solidFill>
            <a:srgbClr val="f8f6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Los pliegues cambian la disposición horizontal que inicialmente poseen los estratos. Para describir la nueva posición se utilizan dos medid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78"/>
          <p:cNvSpPr/>
          <p:nvPr/>
        </p:nvSpPr>
        <p:spPr>
          <a:xfrm>
            <a:off x="1857240" y="571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MMedium"/>
              </a:rPr>
              <a:t>Tipos de plie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16"/>
          <p:cNvGrpSpPr/>
          <p:nvPr/>
        </p:nvGrpSpPr>
        <p:grpSpPr>
          <a:xfrm>
            <a:off x="5451480" y="3637080"/>
            <a:ext cx="3440160" cy="2636640"/>
            <a:chOff x="5451480" y="3637080"/>
            <a:chExt cx="3440160" cy="2636640"/>
          </a:xfrm>
        </p:grpSpPr>
        <p:sp>
          <p:nvSpPr>
            <p:cNvPr id="461" name="Rectangle 117"/>
            <p:cNvSpPr/>
            <p:nvPr/>
          </p:nvSpPr>
          <p:spPr>
            <a:xfrm>
              <a:off x="5451480" y="3637080"/>
              <a:ext cx="3440160" cy="2636640"/>
            </a:xfrm>
            <a:prstGeom prst="rect">
              <a:avLst/>
            </a:prstGeom>
            <a:solidFill>
              <a:srgbClr val="f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18"/>
            <p:cNvSpPr/>
            <p:nvPr/>
          </p:nvSpPr>
          <p:spPr>
            <a:xfrm>
              <a:off x="5551920" y="3660840"/>
              <a:ext cx="263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6600"/>
                  </a:solidFill>
                  <a:latin typeface="Tw Cen MT"/>
                </a:rPr>
                <a:t>Por su simetr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19"/>
          <p:cNvGrpSpPr/>
          <p:nvPr/>
        </p:nvGrpSpPr>
        <p:grpSpPr>
          <a:xfrm>
            <a:off x="282600" y="3637080"/>
            <a:ext cx="5091120" cy="2638440"/>
            <a:chOff x="282600" y="3637080"/>
            <a:chExt cx="5091120" cy="2638440"/>
          </a:xfrm>
        </p:grpSpPr>
        <p:sp>
          <p:nvSpPr>
            <p:cNvPr id="464" name="Rectangle 120"/>
            <p:cNvSpPr/>
            <p:nvPr/>
          </p:nvSpPr>
          <p:spPr>
            <a:xfrm>
              <a:off x="282600" y="3637080"/>
              <a:ext cx="5091120" cy="2638440"/>
            </a:xfrm>
            <a:prstGeom prst="rect">
              <a:avLst/>
            </a:prstGeom>
            <a:solidFill>
              <a:srgbClr val="f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121"/>
            <p:cNvSpPr/>
            <p:nvPr/>
          </p:nvSpPr>
          <p:spPr>
            <a:xfrm>
              <a:off x="433800" y="3660120"/>
              <a:ext cx="389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6600"/>
                  </a:solidFill>
                  <a:latin typeface="Tw Cen MT"/>
                </a:rPr>
                <a:t>Según la posición de su plano ax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22"/>
          <p:cNvGrpSpPr/>
          <p:nvPr/>
        </p:nvGrpSpPr>
        <p:grpSpPr>
          <a:xfrm>
            <a:off x="270000" y="1123920"/>
            <a:ext cx="8645400" cy="2398680"/>
            <a:chOff x="270000" y="1123920"/>
            <a:chExt cx="8645400" cy="2398680"/>
          </a:xfrm>
        </p:grpSpPr>
        <p:sp>
          <p:nvSpPr>
            <p:cNvPr id="467" name="Rectangle 123"/>
            <p:cNvSpPr/>
            <p:nvPr/>
          </p:nvSpPr>
          <p:spPr>
            <a:xfrm>
              <a:off x="270000" y="1198440"/>
              <a:ext cx="8645400" cy="2324160"/>
            </a:xfrm>
            <a:prstGeom prst="rect">
              <a:avLst/>
            </a:prstGeom>
            <a:solidFill>
              <a:srgbClr val="f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24"/>
            <p:cNvSpPr/>
            <p:nvPr/>
          </p:nvSpPr>
          <p:spPr>
            <a:xfrm>
              <a:off x="540360" y="1123920"/>
              <a:ext cx="493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6600"/>
                  </a:solidFill>
                  <a:latin typeface="Tw Cen MT"/>
                </a:rPr>
                <a:t>Según la antigüedad de los materiales del núcl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5"/>
          <p:cNvSpPr/>
          <p:nvPr/>
        </p:nvSpPr>
        <p:spPr>
          <a:xfrm>
            <a:off x="936720" y="1285920"/>
            <a:ext cx="755316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26" descr="C:\dibujossm\Geología 17\t17-3c.jpg"/>
          <p:cNvPicPr/>
          <p:nvPr/>
        </p:nvPicPr>
        <p:blipFill>
          <a:blip r:embed="rId1"/>
          <a:stretch/>
        </p:blipFill>
        <p:spPr>
          <a:xfrm>
            <a:off x="6278400" y="1589040"/>
            <a:ext cx="2059200" cy="1835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27" descr="C:\dibujossm\Geología 17\t17-3d.jpg"/>
          <p:cNvPicPr/>
          <p:nvPr/>
        </p:nvPicPr>
        <p:blipFill>
          <a:blip r:embed="rId2"/>
          <a:stretch/>
        </p:blipFill>
        <p:spPr>
          <a:xfrm>
            <a:off x="2370240" y="1666800"/>
            <a:ext cx="2070000" cy="16542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28" descr="C:\dibujossm\Geología 17\t17-3e.jpg"/>
          <p:cNvPicPr/>
          <p:nvPr/>
        </p:nvPicPr>
        <p:blipFill>
          <a:blip r:embed="rId3"/>
          <a:stretch/>
        </p:blipFill>
        <p:spPr>
          <a:xfrm>
            <a:off x="5602320" y="4218120"/>
            <a:ext cx="1581120" cy="1247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29" descr="C:\dibujossm\Geología 17\t17-3f.jpg"/>
          <p:cNvPicPr/>
          <p:nvPr/>
        </p:nvPicPr>
        <p:blipFill>
          <a:blip r:embed="rId4"/>
          <a:stretch/>
        </p:blipFill>
        <p:spPr>
          <a:xfrm>
            <a:off x="414360" y="4218120"/>
            <a:ext cx="1509840" cy="1460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30" descr="C:\dibujossm\Geología 17\t17-3g.jpg"/>
          <p:cNvPicPr/>
          <p:nvPr/>
        </p:nvPicPr>
        <p:blipFill>
          <a:blip r:embed="rId5"/>
          <a:stretch/>
        </p:blipFill>
        <p:spPr>
          <a:xfrm>
            <a:off x="1971720" y="4218120"/>
            <a:ext cx="1515960" cy="1322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31" descr="C:\dibujossm\Geología 17\t17-3h.jpg"/>
          <p:cNvPicPr/>
          <p:nvPr/>
        </p:nvPicPr>
        <p:blipFill>
          <a:blip r:embed="rId6"/>
          <a:stretch/>
        </p:blipFill>
        <p:spPr>
          <a:xfrm>
            <a:off x="7218360" y="4218120"/>
            <a:ext cx="1515960" cy="13474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32" descr="C:\dibujossm\Geología 17\t17-3i.jpg"/>
          <p:cNvPicPr/>
          <p:nvPr/>
        </p:nvPicPr>
        <p:blipFill>
          <a:blip r:embed="rId7"/>
          <a:stretch/>
        </p:blipFill>
        <p:spPr>
          <a:xfrm>
            <a:off x="3535200" y="4218120"/>
            <a:ext cx="1654200" cy="12333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33"/>
          <p:cNvSpPr/>
          <p:nvPr/>
        </p:nvSpPr>
        <p:spPr>
          <a:xfrm>
            <a:off x="781200" y="183492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SINCL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4"/>
          <p:cNvSpPr/>
          <p:nvPr/>
        </p:nvSpPr>
        <p:spPr>
          <a:xfrm>
            <a:off x="4743360" y="1711440"/>
            <a:ext cx="14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ANTICL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35"/>
          <p:cNvSpPr/>
          <p:nvPr/>
        </p:nvSpPr>
        <p:spPr>
          <a:xfrm>
            <a:off x="6873840" y="309492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36"/>
          <p:cNvSpPr/>
          <p:nvPr/>
        </p:nvSpPr>
        <p:spPr>
          <a:xfrm>
            <a:off x="6873840" y="283608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7"/>
          <p:cNvSpPr/>
          <p:nvPr/>
        </p:nvSpPr>
        <p:spPr>
          <a:xfrm>
            <a:off x="6873840" y="2575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38"/>
          <p:cNvSpPr/>
          <p:nvPr/>
        </p:nvSpPr>
        <p:spPr>
          <a:xfrm>
            <a:off x="6873840" y="2359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9"/>
          <p:cNvSpPr/>
          <p:nvPr/>
        </p:nvSpPr>
        <p:spPr>
          <a:xfrm>
            <a:off x="6872400" y="211392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40"/>
          <p:cNvSpPr/>
          <p:nvPr/>
        </p:nvSpPr>
        <p:spPr>
          <a:xfrm>
            <a:off x="2471760" y="29710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41"/>
          <p:cNvSpPr/>
          <p:nvPr/>
        </p:nvSpPr>
        <p:spPr>
          <a:xfrm>
            <a:off x="2603520" y="2883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42"/>
          <p:cNvSpPr/>
          <p:nvPr/>
        </p:nvSpPr>
        <p:spPr>
          <a:xfrm>
            <a:off x="2722680" y="27378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43"/>
          <p:cNvSpPr/>
          <p:nvPr/>
        </p:nvSpPr>
        <p:spPr>
          <a:xfrm>
            <a:off x="2854440" y="262188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44"/>
          <p:cNvSpPr/>
          <p:nvPr/>
        </p:nvSpPr>
        <p:spPr>
          <a:xfrm>
            <a:off x="2984400" y="24757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45"/>
          <p:cNvSpPr/>
          <p:nvPr/>
        </p:nvSpPr>
        <p:spPr>
          <a:xfrm>
            <a:off x="3198960" y="22867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w Cen MT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46"/>
          <p:cNvSpPr/>
          <p:nvPr/>
        </p:nvSpPr>
        <p:spPr>
          <a:xfrm>
            <a:off x="833400" y="2278080"/>
            <a:ext cx="148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n el núcleo tiene los materiales más mod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47"/>
          <p:cNvSpPr/>
          <p:nvPr/>
        </p:nvSpPr>
        <p:spPr>
          <a:xfrm>
            <a:off x="4762440" y="2276280"/>
            <a:ext cx="147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n el núcleo tiene los materiales más antig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48"/>
          <p:cNvSpPr/>
          <p:nvPr/>
        </p:nvSpPr>
        <p:spPr>
          <a:xfrm>
            <a:off x="549360" y="57589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R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9"/>
          <p:cNvSpPr/>
          <p:nvPr/>
        </p:nvSpPr>
        <p:spPr>
          <a:xfrm>
            <a:off x="2109960" y="5758920"/>
            <a:ext cx="13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INCL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0"/>
          <p:cNvSpPr/>
          <p:nvPr/>
        </p:nvSpPr>
        <p:spPr>
          <a:xfrm>
            <a:off x="3743280" y="57589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TUMB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51"/>
          <p:cNvSpPr/>
          <p:nvPr/>
        </p:nvSpPr>
        <p:spPr>
          <a:xfrm>
            <a:off x="5745240" y="5758920"/>
            <a:ext cx="13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SIMÉT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52"/>
          <p:cNvSpPr/>
          <p:nvPr/>
        </p:nvSpPr>
        <p:spPr>
          <a:xfrm>
            <a:off x="7262640" y="5758920"/>
            <a:ext cx="149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ASIMÉT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78"/>
          <p:cNvSpPr/>
          <p:nvPr/>
        </p:nvSpPr>
        <p:spPr>
          <a:xfrm>
            <a:off x="1857240" y="714240"/>
            <a:ext cx="53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MMedium"/>
              </a:rPr>
              <a:t>Tipos de frac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9"/>
          <p:cNvSpPr/>
          <p:nvPr/>
        </p:nvSpPr>
        <p:spPr>
          <a:xfrm>
            <a:off x="0" y="1168200"/>
            <a:ext cx="913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w Cen MT"/>
              </a:rPr>
              <a:t>Si el esfuerzo al que se somete una roca supera su límite de rotura, se produce una frac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0"/>
          <p:cNvSpPr/>
          <p:nvPr/>
        </p:nvSpPr>
        <p:spPr>
          <a:xfrm>
            <a:off x="1009800" y="1636200"/>
            <a:ext cx="14857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DIACL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1"/>
          <p:cNvSpPr/>
          <p:nvPr/>
        </p:nvSpPr>
        <p:spPr>
          <a:xfrm>
            <a:off x="6002280" y="1631520"/>
            <a:ext cx="14860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w Cen MT"/>
              </a:rPr>
              <a:t>FA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82" descr="C:\dibujossm\Geología 17\t17-4a.jpg"/>
          <p:cNvPicPr/>
          <p:nvPr/>
        </p:nvPicPr>
        <p:blipFill>
          <a:blip r:embed="rId1"/>
          <a:stretch/>
        </p:blipFill>
        <p:spPr>
          <a:xfrm>
            <a:off x="4341960" y="2787480"/>
            <a:ext cx="4560840" cy="3042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3" descr="C:\dibujossm\Geología 17\T17-4.jpg"/>
          <p:cNvPicPr/>
          <p:nvPr/>
        </p:nvPicPr>
        <p:blipFill>
          <a:blip r:embed="rId2"/>
          <a:stretch/>
        </p:blipFill>
        <p:spPr>
          <a:xfrm>
            <a:off x="512640" y="2765520"/>
            <a:ext cx="2243160" cy="23320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84"/>
          <p:cNvSpPr/>
          <p:nvPr/>
        </p:nvSpPr>
        <p:spPr>
          <a:xfrm>
            <a:off x="162000" y="1944720"/>
            <a:ext cx="359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Fracturas en las que los bloques no se deplazan uno con respecto al otro o lo hacen ensanchando la grieta entre el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5"/>
          <p:cNvSpPr/>
          <p:nvPr/>
        </p:nvSpPr>
        <p:spPr>
          <a:xfrm>
            <a:off x="4586400" y="1873440"/>
            <a:ext cx="4317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Fracturas en las que se produce el desplazamiento de un bloque con respecto a o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6"/>
          <p:cNvSpPr/>
          <p:nvPr/>
        </p:nvSpPr>
        <p:spPr>
          <a:xfrm>
            <a:off x="3046320" y="5213880"/>
            <a:ext cx="2698920" cy="307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LEMENTOS DE UNA F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7"/>
          <p:cNvSpPr/>
          <p:nvPr/>
        </p:nvSpPr>
        <p:spPr>
          <a:xfrm>
            <a:off x="388800" y="560196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Plano de fal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8"/>
          <p:cNvSpPr/>
          <p:nvPr/>
        </p:nvSpPr>
        <p:spPr>
          <a:xfrm>
            <a:off x="2062080" y="5510520"/>
            <a:ext cx="485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superficie de fractura sobre la que se produce el desplaza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9"/>
          <p:cNvSpPr/>
          <p:nvPr/>
        </p:nvSpPr>
        <p:spPr>
          <a:xfrm>
            <a:off x="236520" y="590976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Labios de la fal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0"/>
          <p:cNvSpPr/>
          <p:nvPr/>
        </p:nvSpPr>
        <p:spPr>
          <a:xfrm>
            <a:off x="2062080" y="5934600"/>
            <a:ext cx="48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cada uno de los bloques en que queda dividido el terr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1"/>
          <p:cNvSpPr/>
          <p:nvPr/>
        </p:nvSpPr>
        <p:spPr>
          <a:xfrm>
            <a:off x="236520" y="620676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w Cen MT"/>
              </a:rPr>
              <a:t>Salto de fall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2"/>
          <p:cNvSpPr/>
          <p:nvPr/>
        </p:nvSpPr>
        <p:spPr>
          <a:xfrm>
            <a:off x="2062080" y="6231600"/>
            <a:ext cx="48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w Cen MT"/>
              </a:rPr>
              <a:t>medida del desplazamiento relativo entre los lab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93"/>
          <p:cNvGrpSpPr/>
          <p:nvPr/>
        </p:nvGrpSpPr>
        <p:grpSpPr>
          <a:xfrm>
            <a:off x="3214800" y="2656440"/>
            <a:ext cx="1976400" cy="443880"/>
            <a:chOff x="3214800" y="2656440"/>
            <a:chExt cx="1976400" cy="443880"/>
          </a:xfrm>
        </p:grpSpPr>
        <p:sp>
          <p:nvSpPr>
            <p:cNvPr id="513" name="Text Box 94"/>
            <p:cNvSpPr/>
            <p:nvPr/>
          </p:nvSpPr>
          <p:spPr>
            <a:xfrm>
              <a:off x="3214800" y="265644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Labio levan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95"/>
            <p:cNvSpPr/>
            <p:nvPr/>
          </p:nvSpPr>
          <p:spPr>
            <a:xfrm>
              <a:off x="4728960" y="2825640"/>
              <a:ext cx="462240" cy="27468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96"/>
          <p:cNvGrpSpPr/>
          <p:nvPr/>
        </p:nvGrpSpPr>
        <p:grpSpPr>
          <a:xfrm>
            <a:off x="7516800" y="2946960"/>
            <a:ext cx="1717560" cy="672480"/>
            <a:chOff x="7516800" y="2946960"/>
            <a:chExt cx="1717560" cy="672480"/>
          </a:xfrm>
        </p:grpSpPr>
        <p:sp>
          <p:nvSpPr>
            <p:cNvPr id="516" name="Text Box 97"/>
            <p:cNvSpPr/>
            <p:nvPr/>
          </p:nvSpPr>
          <p:spPr>
            <a:xfrm>
              <a:off x="7516800" y="294696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Labio hundi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98"/>
            <p:cNvSpPr/>
            <p:nvPr/>
          </p:nvSpPr>
          <p:spPr>
            <a:xfrm flipH="1">
              <a:off x="7557840" y="3171960"/>
              <a:ext cx="245880" cy="44748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99"/>
          <p:cNvGrpSpPr/>
          <p:nvPr/>
        </p:nvGrpSpPr>
        <p:grpSpPr>
          <a:xfrm>
            <a:off x="3692520" y="3403440"/>
            <a:ext cx="1717560" cy="1582200"/>
            <a:chOff x="3692520" y="3403440"/>
            <a:chExt cx="1717560" cy="1582200"/>
          </a:xfrm>
        </p:grpSpPr>
        <p:sp>
          <p:nvSpPr>
            <p:cNvPr id="519" name="Text Box 100"/>
            <p:cNvSpPr/>
            <p:nvPr/>
          </p:nvSpPr>
          <p:spPr>
            <a:xfrm>
              <a:off x="3692520" y="467856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Plano de fa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01"/>
            <p:cNvSpPr/>
            <p:nvPr/>
          </p:nvSpPr>
          <p:spPr>
            <a:xfrm flipV="1">
              <a:off x="5133960" y="3403440"/>
              <a:ext cx="244440" cy="1442880"/>
            </a:xfrm>
            <a:prstGeom prst="line">
              <a:avLst/>
            </a:prstGeom>
            <a:ln w="1908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102"/>
          <p:cNvGrpSpPr/>
          <p:nvPr/>
        </p:nvGrpSpPr>
        <p:grpSpPr>
          <a:xfrm>
            <a:off x="6226200" y="2969280"/>
            <a:ext cx="1833120" cy="365760"/>
            <a:chOff x="6226200" y="2969280"/>
            <a:chExt cx="1833120" cy="365760"/>
          </a:xfrm>
        </p:grpSpPr>
        <p:sp>
          <p:nvSpPr>
            <p:cNvPr id="522" name="Text Box 103"/>
            <p:cNvSpPr/>
            <p:nvPr/>
          </p:nvSpPr>
          <p:spPr>
            <a:xfrm>
              <a:off x="6341760" y="2969280"/>
              <a:ext cx="17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Salto de fa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04"/>
            <p:cNvSpPr/>
            <p:nvPr/>
          </p:nvSpPr>
          <p:spPr>
            <a:xfrm>
              <a:off x="6226200" y="3022560"/>
              <a:ext cx="201240" cy="312480"/>
            </a:xfrm>
            <a:prstGeom prst="line">
              <a:avLst/>
            </a:prstGeom>
            <a:ln w="22320">
              <a:solidFill>
                <a:srgbClr val="775f55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05"/>
          <p:cNvGrpSpPr/>
          <p:nvPr/>
        </p:nvGrpSpPr>
        <p:grpSpPr>
          <a:xfrm>
            <a:off x="5454720" y="4011840"/>
            <a:ext cx="502560" cy="354600"/>
            <a:chOff x="5454720" y="4011840"/>
            <a:chExt cx="502560" cy="354600"/>
          </a:xfrm>
        </p:grpSpPr>
        <p:grpSp>
          <p:nvGrpSpPr>
            <p:cNvPr id="525" name="Group 106"/>
            <p:cNvGrpSpPr/>
            <p:nvPr/>
          </p:nvGrpSpPr>
          <p:grpSpPr>
            <a:xfrm>
              <a:off x="5454720" y="4012200"/>
              <a:ext cx="273960" cy="354240"/>
              <a:chOff x="5454720" y="4012200"/>
              <a:chExt cx="273960" cy="354240"/>
            </a:xfrm>
          </p:grpSpPr>
          <p:sp>
            <p:nvSpPr>
              <p:cNvPr id="526" name="AutoShape 107"/>
              <p:cNvSpPr/>
              <p:nvPr/>
            </p:nvSpPr>
            <p:spPr>
              <a:xfrm flipH="1" rot="19760400">
                <a:off x="5495400" y="4017960"/>
                <a:ext cx="73440" cy="18180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08"/>
              <p:cNvSpPr/>
              <p:nvPr/>
            </p:nvSpPr>
            <p:spPr>
              <a:xfrm>
                <a:off x="5565960" y="4091760"/>
                <a:ext cx="162720" cy="27468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09"/>
            <p:cNvGrpSpPr/>
            <p:nvPr/>
          </p:nvGrpSpPr>
          <p:grpSpPr>
            <a:xfrm>
              <a:off x="5683320" y="4011840"/>
              <a:ext cx="273960" cy="354240"/>
              <a:chOff x="5683320" y="4011840"/>
              <a:chExt cx="273960" cy="354240"/>
            </a:xfrm>
          </p:grpSpPr>
          <p:sp>
            <p:nvSpPr>
              <p:cNvPr id="529" name="AutoShape 110"/>
              <p:cNvSpPr/>
              <p:nvPr/>
            </p:nvSpPr>
            <p:spPr>
              <a:xfrm flipV="1" rot="19760400">
                <a:off x="5842440" y="4178160"/>
                <a:ext cx="73440" cy="18180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11"/>
              <p:cNvSpPr/>
              <p:nvPr/>
            </p:nvSpPr>
            <p:spPr>
              <a:xfrm flipH="1" flipV="1">
                <a:off x="5683320" y="4011840"/>
                <a:ext cx="162720" cy="27468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78"/>
          <p:cNvSpPr/>
          <p:nvPr/>
        </p:nvSpPr>
        <p:spPr>
          <a:xfrm>
            <a:off x="1828800" y="573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MMedium"/>
              </a:rPr>
              <a:t>Tipos básicos de fa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79" descr="C:\dibujossm\Geología 17\t17-4b.jpg"/>
          <p:cNvPicPr/>
          <p:nvPr/>
        </p:nvPicPr>
        <p:blipFill>
          <a:blip r:embed="rId1"/>
          <a:stretch/>
        </p:blipFill>
        <p:spPr>
          <a:xfrm>
            <a:off x="299880" y="1442880"/>
            <a:ext cx="2286000" cy="1663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0" descr="C:\dibujossm\Geología 17\t17-4c.jpg"/>
          <p:cNvPicPr/>
          <p:nvPr/>
        </p:nvPicPr>
        <p:blipFill>
          <a:blip r:embed="rId2"/>
          <a:stretch/>
        </p:blipFill>
        <p:spPr>
          <a:xfrm>
            <a:off x="3554280" y="1450800"/>
            <a:ext cx="2103480" cy="16765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1" descr="C:\dibujossm\Geología 17\t17-4d.jpg"/>
          <p:cNvPicPr/>
          <p:nvPr/>
        </p:nvPicPr>
        <p:blipFill>
          <a:blip r:embed="rId3"/>
          <a:stretch/>
        </p:blipFill>
        <p:spPr>
          <a:xfrm>
            <a:off x="6554880" y="1525680"/>
            <a:ext cx="2422440" cy="14414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2" descr="C:\dibujossm\Geología 17\t17-4e.jpg"/>
          <p:cNvPicPr/>
          <p:nvPr/>
        </p:nvPicPr>
        <p:blipFill>
          <a:blip r:embed="rId4"/>
          <a:stretch/>
        </p:blipFill>
        <p:spPr>
          <a:xfrm>
            <a:off x="2336760" y="3930480"/>
            <a:ext cx="4680000" cy="22924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83"/>
          <p:cNvGrpSpPr/>
          <p:nvPr/>
        </p:nvGrpSpPr>
        <p:grpSpPr>
          <a:xfrm>
            <a:off x="627840" y="2023920"/>
            <a:ext cx="329760" cy="282960"/>
            <a:chOff x="627840" y="2023920"/>
            <a:chExt cx="329760" cy="282960"/>
          </a:xfrm>
        </p:grpSpPr>
        <p:grpSp>
          <p:nvGrpSpPr>
            <p:cNvPr id="537" name="Group 84"/>
            <p:cNvGrpSpPr/>
            <p:nvPr/>
          </p:nvGrpSpPr>
          <p:grpSpPr>
            <a:xfrm>
              <a:off x="627840" y="2032200"/>
              <a:ext cx="199440" cy="274680"/>
              <a:chOff x="627840" y="2032200"/>
              <a:chExt cx="199440" cy="274680"/>
            </a:xfrm>
          </p:grpSpPr>
          <p:sp>
            <p:nvSpPr>
              <p:cNvPr id="538" name="AutoShape 85"/>
              <p:cNvSpPr/>
              <p:nvPr/>
            </p:nvSpPr>
            <p:spPr>
              <a:xfrm flipH="1" rot="19760400">
                <a:off x="660240" y="203292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86"/>
              <p:cNvSpPr/>
              <p:nvPr/>
            </p:nvSpPr>
            <p:spPr>
              <a:xfrm>
                <a:off x="700920" y="209376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87"/>
            <p:cNvGrpSpPr/>
            <p:nvPr/>
          </p:nvGrpSpPr>
          <p:grpSpPr>
            <a:xfrm>
              <a:off x="758160" y="2023920"/>
              <a:ext cx="199440" cy="274680"/>
              <a:chOff x="758160" y="2023920"/>
              <a:chExt cx="199440" cy="274680"/>
            </a:xfrm>
          </p:grpSpPr>
          <p:sp>
            <p:nvSpPr>
              <p:cNvPr id="541" name="AutoShape 88"/>
              <p:cNvSpPr/>
              <p:nvPr/>
            </p:nvSpPr>
            <p:spPr>
              <a:xfrm flipV="1" rot="19760400">
                <a:off x="882720" y="215604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89"/>
              <p:cNvSpPr/>
              <p:nvPr/>
            </p:nvSpPr>
            <p:spPr>
              <a:xfrm flipH="1" flipV="1">
                <a:off x="758160" y="202392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97"/>
          <p:cNvGrpSpPr/>
          <p:nvPr/>
        </p:nvGrpSpPr>
        <p:grpSpPr>
          <a:xfrm>
            <a:off x="144360" y="1887480"/>
            <a:ext cx="1397520" cy="552600"/>
            <a:chOff x="144360" y="1887480"/>
            <a:chExt cx="1397520" cy="552600"/>
          </a:xfrm>
        </p:grpSpPr>
        <p:sp>
          <p:nvSpPr>
            <p:cNvPr id="544" name="AutoShape 98"/>
            <p:cNvSpPr/>
            <p:nvPr/>
          </p:nvSpPr>
          <p:spPr>
            <a:xfrm>
              <a:off x="144360" y="1887480"/>
              <a:ext cx="528840" cy="347760"/>
            </a:xfrm>
            <a:prstGeom prst="leftArrow">
              <a:avLst>
                <a:gd name="adj1" fmla="val 56009"/>
                <a:gd name="adj2" fmla="val 64756"/>
              </a:avLst>
            </a:prstGeom>
            <a:gradFill rotWithShape="0">
              <a:gsLst>
                <a:gs pos="0">
                  <a:srgbClr val="160cd6"/>
                </a:gs>
                <a:gs pos="100000">
                  <a:srgbClr val="a3d1fb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99"/>
            <p:cNvSpPr/>
            <p:nvPr/>
          </p:nvSpPr>
          <p:spPr>
            <a:xfrm flipH="1">
              <a:off x="1012680" y="2092320"/>
              <a:ext cx="528840" cy="347760"/>
            </a:xfrm>
            <a:prstGeom prst="leftArrow">
              <a:avLst>
                <a:gd name="adj1" fmla="val 56009"/>
                <a:gd name="adj2" fmla="val 64756"/>
              </a:avLst>
            </a:prstGeom>
            <a:gradFill rotWithShape="0">
              <a:gsLst>
                <a:gs pos="0">
                  <a:srgbClr val="a3d1fb"/>
                </a:gs>
                <a:gs pos="100000">
                  <a:srgbClr val="160cd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00"/>
          <p:cNvGrpSpPr/>
          <p:nvPr/>
        </p:nvGrpSpPr>
        <p:grpSpPr>
          <a:xfrm>
            <a:off x="3446280" y="1946160"/>
            <a:ext cx="1182960" cy="552600"/>
            <a:chOff x="3446280" y="1946160"/>
            <a:chExt cx="1182960" cy="552600"/>
          </a:xfrm>
        </p:grpSpPr>
        <p:sp>
          <p:nvSpPr>
            <p:cNvPr id="547" name="AutoShape 101"/>
            <p:cNvSpPr/>
            <p:nvPr/>
          </p:nvSpPr>
          <p:spPr>
            <a:xfrm flipH="1">
              <a:off x="3445920" y="1946160"/>
              <a:ext cx="447480" cy="347760"/>
            </a:xfrm>
            <a:prstGeom prst="leftArrow">
              <a:avLst>
                <a:gd name="adj1" fmla="val 56009"/>
                <a:gd name="adj2" fmla="val 54794"/>
              </a:avLst>
            </a:prstGeom>
            <a:gradFill rotWithShape="0">
              <a:gsLst>
                <a:gs pos="0">
                  <a:srgbClr val="160cd6"/>
                </a:gs>
                <a:gs pos="100000">
                  <a:srgbClr val="a3d1fb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02"/>
            <p:cNvSpPr/>
            <p:nvPr/>
          </p:nvSpPr>
          <p:spPr>
            <a:xfrm>
              <a:off x="4181760" y="2151000"/>
              <a:ext cx="447480" cy="347760"/>
            </a:xfrm>
            <a:prstGeom prst="leftArrow">
              <a:avLst>
                <a:gd name="adj1" fmla="val 56009"/>
                <a:gd name="adj2" fmla="val 54794"/>
              </a:avLst>
            </a:prstGeom>
            <a:gradFill rotWithShape="0">
              <a:gsLst>
                <a:gs pos="0">
                  <a:srgbClr val="a3d1fb"/>
                </a:gs>
                <a:gs pos="100000">
                  <a:srgbClr val="160cd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03"/>
          <p:cNvGrpSpPr/>
          <p:nvPr/>
        </p:nvGrpSpPr>
        <p:grpSpPr>
          <a:xfrm>
            <a:off x="6983280" y="2165400"/>
            <a:ext cx="1575000" cy="347760"/>
            <a:chOff x="6983280" y="2165400"/>
            <a:chExt cx="1575000" cy="347760"/>
          </a:xfrm>
        </p:grpSpPr>
        <p:sp>
          <p:nvSpPr>
            <p:cNvPr id="550" name="AutoShape 104"/>
            <p:cNvSpPr/>
            <p:nvPr/>
          </p:nvSpPr>
          <p:spPr>
            <a:xfrm>
              <a:off x="6983280" y="2165400"/>
              <a:ext cx="447840" cy="347760"/>
            </a:xfrm>
            <a:prstGeom prst="leftArrow">
              <a:avLst>
                <a:gd name="adj1" fmla="val 56009"/>
                <a:gd name="adj2" fmla="val 54838"/>
              </a:avLst>
            </a:prstGeom>
            <a:gradFill rotWithShape="0">
              <a:gsLst>
                <a:gs pos="0">
                  <a:srgbClr val="160cd6"/>
                </a:gs>
                <a:gs pos="100000">
                  <a:srgbClr val="a3d1fb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105"/>
            <p:cNvSpPr/>
            <p:nvPr/>
          </p:nvSpPr>
          <p:spPr>
            <a:xfrm flipH="1">
              <a:off x="8110440" y="2165400"/>
              <a:ext cx="447840" cy="347760"/>
            </a:xfrm>
            <a:prstGeom prst="leftArrow">
              <a:avLst>
                <a:gd name="adj1" fmla="val 56009"/>
                <a:gd name="adj2" fmla="val 54838"/>
              </a:avLst>
            </a:prstGeom>
            <a:gradFill rotWithShape="0">
              <a:gsLst>
                <a:gs pos="0">
                  <a:srgbClr val="a3d1fb"/>
                </a:gs>
                <a:gs pos="100000">
                  <a:srgbClr val="160cd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06"/>
          <p:cNvGrpSpPr/>
          <p:nvPr/>
        </p:nvGrpSpPr>
        <p:grpSpPr>
          <a:xfrm>
            <a:off x="7573680" y="1674000"/>
            <a:ext cx="327600" cy="253800"/>
            <a:chOff x="7573680" y="1674000"/>
            <a:chExt cx="327600" cy="253800"/>
          </a:xfrm>
        </p:grpSpPr>
        <p:grpSp>
          <p:nvGrpSpPr>
            <p:cNvPr id="553" name="Group 107"/>
            <p:cNvGrpSpPr/>
            <p:nvPr/>
          </p:nvGrpSpPr>
          <p:grpSpPr>
            <a:xfrm>
              <a:off x="7592040" y="1674000"/>
              <a:ext cx="309240" cy="120960"/>
              <a:chOff x="7592040" y="1674000"/>
              <a:chExt cx="309240" cy="120960"/>
            </a:xfrm>
          </p:grpSpPr>
          <p:sp>
            <p:nvSpPr>
              <p:cNvPr id="554" name="AutoShape 108"/>
              <p:cNvSpPr/>
              <p:nvPr/>
            </p:nvSpPr>
            <p:spPr>
              <a:xfrm flipH="1" rot="4531200">
                <a:off x="7806240" y="164088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09"/>
              <p:cNvSpPr/>
              <p:nvPr/>
            </p:nvSpPr>
            <p:spPr>
              <a:xfrm flipH="1">
                <a:off x="7592040" y="1733040"/>
                <a:ext cx="239760" cy="619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10"/>
            <p:cNvGrpSpPr/>
            <p:nvPr/>
          </p:nvGrpSpPr>
          <p:grpSpPr>
            <a:xfrm>
              <a:off x="7573680" y="1806840"/>
              <a:ext cx="309240" cy="120960"/>
              <a:chOff x="7573680" y="1806840"/>
              <a:chExt cx="309240" cy="120960"/>
            </a:xfrm>
          </p:grpSpPr>
          <p:sp>
            <p:nvSpPr>
              <p:cNvPr id="557" name="AutoShape 111"/>
              <p:cNvSpPr/>
              <p:nvPr/>
            </p:nvSpPr>
            <p:spPr>
              <a:xfrm flipV="1" rot="4531200">
                <a:off x="7626240" y="181908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12"/>
              <p:cNvSpPr/>
              <p:nvPr/>
            </p:nvSpPr>
            <p:spPr>
              <a:xfrm flipV="1">
                <a:off x="7643160" y="1806840"/>
                <a:ext cx="239760" cy="619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9" name="Text Box 113"/>
          <p:cNvSpPr/>
          <p:nvPr/>
        </p:nvSpPr>
        <p:spPr>
          <a:xfrm>
            <a:off x="316080" y="2941920"/>
            <a:ext cx="235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Tw Cen MT"/>
              </a:rPr>
              <a:t>Falla normal o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14"/>
          <p:cNvSpPr/>
          <p:nvPr/>
        </p:nvSpPr>
        <p:spPr>
          <a:xfrm>
            <a:off x="3881520" y="306360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Tw Cen MT"/>
              </a:rPr>
              <a:t>Falla inve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15"/>
          <p:cNvSpPr/>
          <p:nvPr/>
        </p:nvSpPr>
        <p:spPr>
          <a:xfrm>
            <a:off x="6838920" y="2941920"/>
            <a:ext cx="18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Tw Cen MT"/>
              </a:rPr>
              <a:t>Falla de desgar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16"/>
          <p:cNvSpPr/>
          <p:nvPr/>
        </p:nvSpPr>
        <p:spPr>
          <a:xfrm>
            <a:off x="2689200" y="6325920"/>
            <a:ext cx="21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6600"/>
                </a:solidFill>
                <a:latin typeface="Tw Cen MT"/>
              </a:rPr>
              <a:t>Sistemas de fa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17"/>
          <p:cNvGrpSpPr/>
          <p:nvPr/>
        </p:nvGrpSpPr>
        <p:grpSpPr>
          <a:xfrm>
            <a:off x="2680560" y="5229000"/>
            <a:ext cx="329760" cy="282960"/>
            <a:chOff x="2680560" y="5229000"/>
            <a:chExt cx="329760" cy="282960"/>
          </a:xfrm>
        </p:grpSpPr>
        <p:grpSp>
          <p:nvGrpSpPr>
            <p:cNvPr id="564" name="Group 118"/>
            <p:cNvGrpSpPr/>
            <p:nvPr/>
          </p:nvGrpSpPr>
          <p:grpSpPr>
            <a:xfrm>
              <a:off x="2810880" y="5237280"/>
              <a:ext cx="199440" cy="274680"/>
              <a:chOff x="2810880" y="5237280"/>
              <a:chExt cx="199440" cy="274680"/>
            </a:xfrm>
          </p:grpSpPr>
          <p:sp>
            <p:nvSpPr>
              <p:cNvPr id="565" name="AutoShape 119"/>
              <p:cNvSpPr/>
              <p:nvPr/>
            </p:nvSpPr>
            <p:spPr>
              <a:xfrm rot="1839600">
                <a:off x="2935440" y="523800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20"/>
              <p:cNvSpPr/>
              <p:nvPr/>
            </p:nvSpPr>
            <p:spPr>
              <a:xfrm flipH="1">
                <a:off x="2810880" y="529884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21"/>
            <p:cNvGrpSpPr/>
            <p:nvPr/>
          </p:nvGrpSpPr>
          <p:grpSpPr>
            <a:xfrm>
              <a:off x="2680560" y="5229000"/>
              <a:ext cx="199440" cy="274680"/>
              <a:chOff x="2680560" y="5229000"/>
              <a:chExt cx="199440" cy="274680"/>
            </a:xfrm>
          </p:grpSpPr>
          <p:sp>
            <p:nvSpPr>
              <p:cNvPr id="568" name="AutoShape 122"/>
              <p:cNvSpPr/>
              <p:nvPr/>
            </p:nvSpPr>
            <p:spPr>
              <a:xfrm flipH="1" flipV="1" rot="1839600">
                <a:off x="2712960" y="536112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123"/>
              <p:cNvSpPr/>
              <p:nvPr/>
            </p:nvSpPr>
            <p:spPr>
              <a:xfrm flipV="1">
                <a:off x="2753640" y="522900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Group 124"/>
          <p:cNvGrpSpPr/>
          <p:nvPr/>
        </p:nvGrpSpPr>
        <p:grpSpPr>
          <a:xfrm>
            <a:off x="4931640" y="5590800"/>
            <a:ext cx="329760" cy="282960"/>
            <a:chOff x="4931640" y="5590800"/>
            <a:chExt cx="329760" cy="282960"/>
          </a:xfrm>
        </p:grpSpPr>
        <p:grpSp>
          <p:nvGrpSpPr>
            <p:cNvPr id="571" name="Group 125"/>
            <p:cNvGrpSpPr/>
            <p:nvPr/>
          </p:nvGrpSpPr>
          <p:grpSpPr>
            <a:xfrm>
              <a:off x="5061960" y="5599080"/>
              <a:ext cx="199440" cy="274680"/>
              <a:chOff x="5061960" y="5599080"/>
              <a:chExt cx="199440" cy="274680"/>
            </a:xfrm>
          </p:grpSpPr>
          <p:sp>
            <p:nvSpPr>
              <p:cNvPr id="572" name="AutoShape 126"/>
              <p:cNvSpPr/>
              <p:nvPr/>
            </p:nvSpPr>
            <p:spPr>
              <a:xfrm rot="1839600">
                <a:off x="5186520" y="559980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127"/>
              <p:cNvSpPr/>
              <p:nvPr/>
            </p:nvSpPr>
            <p:spPr>
              <a:xfrm flipH="1">
                <a:off x="5061960" y="566064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28"/>
            <p:cNvGrpSpPr/>
            <p:nvPr/>
          </p:nvGrpSpPr>
          <p:grpSpPr>
            <a:xfrm>
              <a:off x="4931640" y="5590800"/>
              <a:ext cx="199440" cy="274680"/>
              <a:chOff x="4931640" y="5590800"/>
              <a:chExt cx="199440" cy="274680"/>
            </a:xfrm>
          </p:grpSpPr>
          <p:sp>
            <p:nvSpPr>
              <p:cNvPr id="575" name="AutoShape 129"/>
              <p:cNvSpPr/>
              <p:nvPr/>
            </p:nvSpPr>
            <p:spPr>
              <a:xfrm flipH="1" flipV="1" rot="1839600">
                <a:off x="4964040" y="572292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130"/>
              <p:cNvSpPr/>
              <p:nvPr/>
            </p:nvSpPr>
            <p:spPr>
              <a:xfrm flipV="1">
                <a:off x="5004720" y="5590800"/>
                <a:ext cx="126360" cy="21312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Group 131"/>
          <p:cNvGrpSpPr/>
          <p:nvPr/>
        </p:nvGrpSpPr>
        <p:grpSpPr>
          <a:xfrm>
            <a:off x="4272840" y="5332680"/>
            <a:ext cx="167760" cy="364320"/>
            <a:chOff x="4272840" y="5332680"/>
            <a:chExt cx="167760" cy="364320"/>
          </a:xfrm>
        </p:grpSpPr>
        <p:grpSp>
          <p:nvGrpSpPr>
            <p:cNvPr id="578" name="Group 132"/>
            <p:cNvGrpSpPr/>
            <p:nvPr/>
          </p:nvGrpSpPr>
          <p:grpSpPr>
            <a:xfrm>
              <a:off x="4272840" y="5332680"/>
              <a:ext cx="45000" cy="320400"/>
              <a:chOff x="4272840" y="5332680"/>
              <a:chExt cx="45000" cy="320400"/>
            </a:xfrm>
          </p:grpSpPr>
          <p:sp>
            <p:nvSpPr>
              <p:cNvPr id="579" name="AutoShape 133"/>
              <p:cNvSpPr/>
              <p:nvPr/>
            </p:nvSpPr>
            <p:spPr>
              <a:xfrm flipH="1" rot="75000">
                <a:off x="4273920" y="533304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134"/>
              <p:cNvSpPr/>
              <p:nvPr/>
            </p:nvSpPr>
            <p:spPr>
              <a:xfrm flipH="1">
                <a:off x="4311360" y="5405400"/>
                <a:ext cx="5400" cy="24768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35"/>
            <p:cNvGrpSpPr/>
            <p:nvPr/>
          </p:nvGrpSpPr>
          <p:grpSpPr>
            <a:xfrm>
              <a:off x="4395600" y="5376600"/>
              <a:ext cx="45000" cy="320400"/>
              <a:chOff x="4395600" y="5376600"/>
              <a:chExt cx="45000" cy="320400"/>
            </a:xfrm>
          </p:grpSpPr>
          <p:sp>
            <p:nvSpPr>
              <p:cNvPr id="582" name="AutoShape 136"/>
              <p:cNvSpPr/>
              <p:nvPr/>
            </p:nvSpPr>
            <p:spPr>
              <a:xfrm flipV="1" rot="75000">
                <a:off x="4397040" y="555552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37"/>
              <p:cNvSpPr/>
              <p:nvPr/>
            </p:nvSpPr>
            <p:spPr>
              <a:xfrm flipV="1">
                <a:off x="4396680" y="5376600"/>
                <a:ext cx="5400" cy="24768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4" name="Text Box 138"/>
          <p:cNvSpPr/>
          <p:nvPr/>
        </p:nvSpPr>
        <p:spPr>
          <a:xfrm>
            <a:off x="152280" y="33339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l plano de falla buza hacia el labio hund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9"/>
          <p:cNvSpPr/>
          <p:nvPr/>
        </p:nvSpPr>
        <p:spPr>
          <a:xfrm>
            <a:off x="2841480" y="3221280"/>
            <a:ext cx="398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El plano de falla buza hacia el labio levan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40"/>
          <p:cNvSpPr/>
          <p:nvPr/>
        </p:nvSpPr>
        <p:spPr>
          <a:xfrm>
            <a:off x="6881760" y="3327840"/>
            <a:ext cx="212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No hay labio levantado ni hund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1"/>
          <p:cNvSpPr/>
          <p:nvPr/>
        </p:nvSpPr>
        <p:spPr>
          <a:xfrm>
            <a:off x="152280" y="37468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Se origina por fuerzas de trac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2"/>
          <p:cNvSpPr/>
          <p:nvPr/>
        </p:nvSpPr>
        <p:spPr>
          <a:xfrm>
            <a:off x="2844720" y="3575520"/>
            <a:ext cx="39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Se origina por esfuerzos de compres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3"/>
          <p:cNvSpPr/>
          <p:nvPr/>
        </p:nvSpPr>
        <p:spPr>
          <a:xfrm>
            <a:off x="6881760" y="3746880"/>
            <a:ext cx="212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marL="101520" indent="-101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w Cen MT"/>
              </a:rPr>
              <a:t>Hay un desplazamiento relativo de los bloq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44"/>
          <p:cNvGrpSpPr/>
          <p:nvPr/>
        </p:nvGrpSpPr>
        <p:grpSpPr>
          <a:xfrm>
            <a:off x="2424240" y="5266800"/>
            <a:ext cx="1154160" cy="797040"/>
            <a:chOff x="2424240" y="5266800"/>
            <a:chExt cx="1154160" cy="797040"/>
          </a:xfrm>
        </p:grpSpPr>
        <p:sp>
          <p:nvSpPr>
            <p:cNvPr id="591" name="Text Box 145"/>
            <p:cNvSpPr/>
            <p:nvPr/>
          </p:nvSpPr>
          <p:spPr>
            <a:xfrm>
              <a:off x="2424240" y="5756760"/>
              <a:ext cx="115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Hor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46"/>
            <p:cNvSpPr/>
            <p:nvPr/>
          </p:nvSpPr>
          <p:spPr>
            <a:xfrm flipV="1">
              <a:off x="3059280" y="5266800"/>
              <a:ext cx="360360" cy="535320"/>
            </a:xfrm>
            <a:prstGeom prst="line">
              <a:avLst/>
            </a:prstGeom>
            <a:ln w="1260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47"/>
          <p:cNvGrpSpPr/>
          <p:nvPr/>
        </p:nvGrpSpPr>
        <p:grpSpPr>
          <a:xfrm>
            <a:off x="4489560" y="5541480"/>
            <a:ext cx="1154160" cy="795600"/>
            <a:chOff x="4489560" y="5541480"/>
            <a:chExt cx="1154160" cy="795600"/>
          </a:xfrm>
        </p:grpSpPr>
        <p:sp>
          <p:nvSpPr>
            <p:cNvPr id="594" name="Text Box 148"/>
            <p:cNvSpPr/>
            <p:nvPr/>
          </p:nvSpPr>
          <p:spPr>
            <a:xfrm>
              <a:off x="4489560" y="6030000"/>
              <a:ext cx="115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w Cen MT"/>
                </a:rPr>
                <a:t>Grab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49"/>
            <p:cNvSpPr/>
            <p:nvPr/>
          </p:nvSpPr>
          <p:spPr>
            <a:xfrm flipH="1" flipV="1">
              <a:off x="4603320" y="5541480"/>
              <a:ext cx="376200" cy="551160"/>
            </a:xfrm>
            <a:prstGeom prst="line">
              <a:avLst/>
            </a:prstGeom>
            <a:ln w="1260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Text Box 150"/>
          <p:cNvSpPr/>
          <p:nvPr/>
        </p:nvSpPr>
        <p:spPr>
          <a:xfrm>
            <a:off x="488880" y="5860800"/>
            <a:ext cx="264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w Cen MT"/>
              </a:rPr>
              <a:t>Bloque levantado limitado por fal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51"/>
          <p:cNvSpPr/>
          <p:nvPr/>
        </p:nvSpPr>
        <p:spPr>
          <a:xfrm>
            <a:off x="5051520" y="6149880"/>
            <a:ext cx="26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w Cen MT"/>
              </a:rPr>
              <a:t>Bloque hundido limitado por fall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152"/>
          <p:cNvGrpSpPr/>
          <p:nvPr/>
        </p:nvGrpSpPr>
        <p:grpSpPr>
          <a:xfrm>
            <a:off x="3940560" y="2013480"/>
            <a:ext cx="179640" cy="397440"/>
            <a:chOff x="3940560" y="2013480"/>
            <a:chExt cx="179640" cy="397440"/>
          </a:xfrm>
        </p:grpSpPr>
        <p:grpSp>
          <p:nvGrpSpPr>
            <p:cNvPr id="599" name="Group 153"/>
            <p:cNvGrpSpPr/>
            <p:nvPr/>
          </p:nvGrpSpPr>
          <p:grpSpPr>
            <a:xfrm>
              <a:off x="3940560" y="2013480"/>
              <a:ext cx="115200" cy="313200"/>
              <a:chOff x="3940560" y="2013480"/>
              <a:chExt cx="115200" cy="313200"/>
            </a:xfrm>
          </p:grpSpPr>
          <p:sp>
            <p:nvSpPr>
              <p:cNvPr id="600" name="AutoShape 154"/>
              <p:cNvSpPr/>
              <p:nvPr/>
            </p:nvSpPr>
            <p:spPr>
              <a:xfrm flipH="1" rot="1272000">
                <a:off x="3989520" y="201600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55"/>
              <p:cNvSpPr/>
              <p:nvPr/>
            </p:nvSpPr>
            <p:spPr>
              <a:xfrm flipH="1">
                <a:off x="3940560" y="2095920"/>
                <a:ext cx="89640" cy="23076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156"/>
            <p:cNvGrpSpPr/>
            <p:nvPr/>
          </p:nvGrpSpPr>
          <p:grpSpPr>
            <a:xfrm>
              <a:off x="4005360" y="2097360"/>
              <a:ext cx="114840" cy="313560"/>
              <a:chOff x="4005360" y="2097360"/>
              <a:chExt cx="114840" cy="313560"/>
            </a:xfrm>
          </p:grpSpPr>
          <p:sp>
            <p:nvSpPr>
              <p:cNvPr id="603" name="AutoShape 157"/>
              <p:cNvSpPr/>
              <p:nvPr/>
            </p:nvSpPr>
            <p:spPr>
              <a:xfrm flipV="1" rot="1272000">
                <a:off x="4029120" y="2266560"/>
                <a:ext cx="41760" cy="1411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58"/>
              <p:cNvSpPr/>
              <p:nvPr/>
            </p:nvSpPr>
            <p:spPr>
              <a:xfrm flipV="1">
                <a:off x="4030560" y="2097360"/>
                <a:ext cx="89640" cy="230760"/>
              </a:xfrm>
              <a:prstGeom prst="line">
                <a:avLst/>
              </a:prstGeom>
              <a:ln w="12600">
                <a:solidFill>
                  <a:srgbClr val="775f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78"/>
          <p:cNvSpPr/>
          <p:nvPr/>
        </p:nvSpPr>
        <p:spPr>
          <a:xfrm>
            <a:off x="1828800" y="57312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MMedium"/>
              </a:rPr>
              <a:t>Cómo identificar una estructura tect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79"/>
          <p:cNvGrpSpPr/>
          <p:nvPr/>
        </p:nvGrpSpPr>
        <p:grpSpPr>
          <a:xfrm>
            <a:off x="4792680" y="4893480"/>
            <a:ext cx="4187880" cy="529200"/>
            <a:chOff x="4792680" y="4893480"/>
            <a:chExt cx="4187880" cy="529200"/>
          </a:xfrm>
        </p:grpSpPr>
        <p:pic>
          <p:nvPicPr>
            <p:cNvPr id="607" name="Picture 80" descr="C:\dibujossm\Geología 17\t17-4g1.jpg"/>
            <p:cNvPicPr/>
            <p:nvPr/>
          </p:nvPicPr>
          <p:blipFill>
            <a:blip r:embed="rId1"/>
            <a:srcRect l="6649" t="6754" r="6649" b="6754"/>
            <a:stretch/>
          </p:blipFill>
          <p:spPr>
            <a:xfrm>
              <a:off x="4792680" y="5194080"/>
              <a:ext cx="4187880" cy="22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8" name="Group 81"/>
            <p:cNvGrpSpPr/>
            <p:nvPr/>
          </p:nvGrpSpPr>
          <p:grpSpPr>
            <a:xfrm>
              <a:off x="4888080" y="4893480"/>
              <a:ext cx="3933720" cy="368280"/>
              <a:chOff x="4888080" y="4893480"/>
              <a:chExt cx="3933720" cy="368280"/>
            </a:xfrm>
          </p:grpSpPr>
          <p:sp>
            <p:nvSpPr>
              <p:cNvPr id="609" name="Text Box 82"/>
              <p:cNvSpPr/>
              <p:nvPr/>
            </p:nvSpPr>
            <p:spPr>
              <a:xfrm>
                <a:off x="838836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83"/>
              <p:cNvSpPr/>
              <p:nvPr/>
            </p:nvSpPr>
            <p:spPr>
              <a:xfrm>
                <a:off x="488808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84"/>
              <p:cNvSpPr/>
              <p:nvPr/>
            </p:nvSpPr>
            <p:spPr>
              <a:xfrm>
                <a:off x="635148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85"/>
              <p:cNvSpPr/>
              <p:nvPr/>
            </p:nvSpPr>
            <p:spPr>
              <a:xfrm>
                <a:off x="748512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86"/>
              <p:cNvSpPr/>
              <p:nvPr/>
            </p:nvSpPr>
            <p:spPr>
              <a:xfrm>
                <a:off x="565164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Text Box 87"/>
              <p:cNvSpPr/>
              <p:nvPr/>
            </p:nvSpPr>
            <p:spPr>
              <a:xfrm>
                <a:off x="6753240" y="48934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5" name="Arc 88"/>
          <p:cNvSpPr/>
          <p:nvPr/>
        </p:nvSpPr>
        <p:spPr>
          <a:xfrm flipV="1">
            <a:off x="6891480" y="5199840"/>
            <a:ext cx="77760" cy="136440"/>
          </a:xfrm>
          <a:prstGeom prst="pie">
            <a:avLst/>
          </a:prstGeom>
          <a:noFill/>
          <a:ln w="22320">
            <a:solidFill>
              <a:srgbClr val="00ff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9"/>
          <p:cNvSpPr/>
          <p:nvPr/>
        </p:nvSpPr>
        <p:spPr>
          <a:xfrm>
            <a:off x="133200" y="3705480"/>
            <a:ext cx="8853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Si los estratos no están horizontales, la repetición de materiales en la superficie indica la existencia de una estructur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0"/>
          <p:cNvSpPr/>
          <p:nvPr/>
        </p:nvSpPr>
        <p:spPr>
          <a:xfrm>
            <a:off x="196920" y="4542480"/>
            <a:ext cx="4459320" cy="291960"/>
          </a:xfrm>
          <a:prstGeom prst="rect">
            <a:avLst/>
          </a:prstGeom>
          <a:solidFill>
            <a:srgbClr val="a3f9d2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Si la repetición es simétrica la estructura es un pliegu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1"/>
          <p:cNvSpPr/>
          <p:nvPr/>
        </p:nvSpPr>
        <p:spPr>
          <a:xfrm>
            <a:off x="409680" y="5471280"/>
            <a:ext cx="3927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Si </a:t>
            </a:r>
            <a:r>
              <a:rPr b="0" lang="es-ES_tradnl" sz="1300" spc="-1" strike="noStrike">
                <a:solidFill>
                  <a:srgbClr val="006600"/>
                </a:solidFill>
                <a:latin typeface="Tw Cen MT"/>
              </a:rPr>
              <a:t>el material central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 es el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más antiguo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 es un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anticlinal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, si es el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más moderno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 será un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sinclinal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92"/>
          <p:cNvSpPr/>
          <p:nvPr/>
        </p:nvSpPr>
        <p:spPr>
          <a:xfrm>
            <a:off x="4730760" y="4451760"/>
            <a:ext cx="4248000" cy="489960"/>
          </a:xfrm>
          <a:prstGeom prst="rect">
            <a:avLst/>
          </a:prstGeom>
          <a:solidFill>
            <a:srgbClr val="a3f9d2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Si la repetición sigue un orden la estructura es una fall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3"/>
          <p:cNvSpPr/>
          <p:nvPr/>
        </p:nvSpPr>
        <p:spPr>
          <a:xfrm>
            <a:off x="5060880" y="5562360"/>
            <a:ext cx="37530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Si el </a:t>
            </a:r>
            <a:r>
              <a:rPr b="0" lang="es-ES_tradnl" sz="1300" spc="-1" strike="noStrike">
                <a:solidFill>
                  <a:srgbClr val="006600"/>
                </a:solidFill>
                <a:latin typeface="Tw Cen MT"/>
              </a:rPr>
              <a:t>plano de falla buza hacia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 el material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más moderno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 será una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falla normal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, si buza hacia el material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más antiguo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, una </a:t>
            </a:r>
            <a:r>
              <a:rPr b="0" lang="es-ES_tradnl" sz="1300" spc="-1" strike="noStrike">
                <a:solidFill>
                  <a:srgbClr val="ff0000"/>
                </a:solidFill>
                <a:latin typeface="Tw Cen MT"/>
              </a:rPr>
              <a:t>falla inversa</a:t>
            </a:r>
            <a:r>
              <a:rPr b="0" lang="es-ES_tradnl" sz="13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94"/>
          <p:cNvGrpSpPr/>
          <p:nvPr/>
        </p:nvGrpSpPr>
        <p:grpSpPr>
          <a:xfrm>
            <a:off x="281160" y="1201680"/>
            <a:ext cx="3958920" cy="2457360"/>
            <a:chOff x="281160" y="1201680"/>
            <a:chExt cx="3958920" cy="2457360"/>
          </a:xfrm>
        </p:grpSpPr>
        <p:pic>
          <p:nvPicPr>
            <p:cNvPr id="622" name="Picture 95" descr="C:\dibujossm\Geología 17\t17-4f.jpg"/>
            <p:cNvPicPr/>
            <p:nvPr/>
          </p:nvPicPr>
          <p:blipFill>
            <a:blip r:embed="rId2"/>
            <a:stretch/>
          </p:blipFill>
          <p:spPr>
            <a:xfrm>
              <a:off x="281160" y="1201680"/>
              <a:ext cx="39589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 Box 96"/>
            <p:cNvSpPr/>
            <p:nvPr/>
          </p:nvSpPr>
          <p:spPr>
            <a:xfrm>
              <a:off x="3365280" y="145656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w Cen MT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97"/>
            <p:cNvSpPr/>
            <p:nvPr/>
          </p:nvSpPr>
          <p:spPr>
            <a:xfrm>
              <a:off x="823680" y="128520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w Cen MT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98"/>
            <p:cNvSpPr/>
            <p:nvPr/>
          </p:nvSpPr>
          <p:spPr>
            <a:xfrm>
              <a:off x="2063520" y="137088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w Cen MT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99"/>
            <p:cNvSpPr/>
            <p:nvPr/>
          </p:nvSpPr>
          <p:spPr>
            <a:xfrm>
              <a:off x="2744640" y="142812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w Cen MT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100"/>
            <p:cNvSpPr/>
            <p:nvPr/>
          </p:nvSpPr>
          <p:spPr>
            <a:xfrm>
              <a:off x="1400040" y="1313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Tw Cen MT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01"/>
          <p:cNvGrpSpPr/>
          <p:nvPr/>
        </p:nvGrpSpPr>
        <p:grpSpPr>
          <a:xfrm>
            <a:off x="4944960" y="1227240"/>
            <a:ext cx="3959280" cy="2428920"/>
            <a:chOff x="4944960" y="1227240"/>
            <a:chExt cx="3959280" cy="2428920"/>
          </a:xfrm>
        </p:grpSpPr>
        <p:pic>
          <p:nvPicPr>
            <p:cNvPr id="629" name="Picture 102" descr="C:\dibujossm\Geología 17\t17-4g.jpg"/>
            <p:cNvPicPr/>
            <p:nvPr/>
          </p:nvPicPr>
          <p:blipFill>
            <a:blip r:embed="rId3"/>
            <a:stretch/>
          </p:blipFill>
          <p:spPr>
            <a:xfrm>
              <a:off x="4944960" y="1227240"/>
              <a:ext cx="3959280" cy="242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" name="Group 103"/>
            <p:cNvGrpSpPr/>
            <p:nvPr/>
          </p:nvGrpSpPr>
          <p:grpSpPr>
            <a:xfrm>
              <a:off x="5619600" y="1264680"/>
              <a:ext cx="2917800" cy="603000"/>
              <a:chOff x="5619600" y="1264680"/>
              <a:chExt cx="2917800" cy="603000"/>
            </a:xfrm>
          </p:grpSpPr>
          <p:sp>
            <p:nvSpPr>
              <p:cNvPr id="631" name="Text Box 104"/>
              <p:cNvSpPr/>
              <p:nvPr/>
            </p:nvSpPr>
            <p:spPr>
              <a:xfrm>
                <a:off x="8103960" y="14994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105"/>
              <p:cNvSpPr/>
              <p:nvPr/>
            </p:nvSpPr>
            <p:spPr>
              <a:xfrm>
                <a:off x="5619600" y="12646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 Box 106"/>
              <p:cNvSpPr/>
              <p:nvPr/>
            </p:nvSpPr>
            <p:spPr>
              <a:xfrm>
                <a:off x="6637320" y="136908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 Box 107"/>
              <p:cNvSpPr/>
              <p:nvPr/>
            </p:nvSpPr>
            <p:spPr>
              <a:xfrm>
                <a:off x="7381800" y="14198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108"/>
              <p:cNvSpPr/>
              <p:nvPr/>
            </p:nvSpPr>
            <p:spPr>
              <a:xfrm>
                <a:off x="6151320" y="130572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109"/>
              <p:cNvSpPr/>
              <p:nvPr/>
            </p:nvSpPr>
            <p:spPr>
              <a:xfrm>
                <a:off x="6900840" y="137232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Line 110"/>
          <p:cNvSpPr/>
          <p:nvPr/>
        </p:nvSpPr>
        <p:spPr>
          <a:xfrm flipH="1" flipV="1">
            <a:off x="6678360" y="5098680"/>
            <a:ext cx="555480" cy="5367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11"/>
          <p:cNvSpPr/>
          <p:nvPr/>
        </p:nvSpPr>
        <p:spPr>
          <a:xfrm>
            <a:off x="6294600" y="5194440"/>
            <a:ext cx="118404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112"/>
          <p:cNvGrpSpPr/>
          <p:nvPr/>
        </p:nvGrpSpPr>
        <p:grpSpPr>
          <a:xfrm>
            <a:off x="506520" y="4917240"/>
            <a:ext cx="3525840" cy="511920"/>
            <a:chOff x="506520" y="4917240"/>
            <a:chExt cx="3525840" cy="511920"/>
          </a:xfrm>
        </p:grpSpPr>
        <p:grpSp>
          <p:nvGrpSpPr>
            <p:cNvPr id="640" name="Group 113"/>
            <p:cNvGrpSpPr/>
            <p:nvPr/>
          </p:nvGrpSpPr>
          <p:grpSpPr>
            <a:xfrm>
              <a:off x="506520" y="4917240"/>
              <a:ext cx="3303360" cy="368280"/>
              <a:chOff x="506520" y="4917240"/>
              <a:chExt cx="3303360" cy="368280"/>
            </a:xfrm>
          </p:grpSpPr>
          <p:sp>
            <p:nvSpPr>
              <p:cNvPr id="641" name="Text Box 114"/>
              <p:cNvSpPr/>
              <p:nvPr/>
            </p:nvSpPr>
            <p:spPr>
              <a:xfrm>
                <a:off x="3376440" y="49172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115"/>
              <p:cNvSpPr/>
              <p:nvPr/>
            </p:nvSpPr>
            <p:spPr>
              <a:xfrm>
                <a:off x="506520" y="491724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116"/>
              <p:cNvSpPr/>
              <p:nvPr/>
            </p:nvSpPr>
            <p:spPr>
              <a:xfrm>
                <a:off x="1960560" y="49172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117"/>
              <p:cNvSpPr/>
              <p:nvPr/>
            </p:nvSpPr>
            <p:spPr>
              <a:xfrm>
                <a:off x="2641680" y="491724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Text Box 118"/>
              <p:cNvSpPr/>
              <p:nvPr/>
            </p:nvSpPr>
            <p:spPr>
              <a:xfrm>
                <a:off x="1054080" y="491724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w Cen MT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6" name="Picture 119" descr="C:\dibujossm\Geología 17\t17-4f1.jpg"/>
            <p:cNvPicPr/>
            <p:nvPr/>
          </p:nvPicPr>
          <p:blipFill>
            <a:blip r:embed="rId4"/>
            <a:srcRect l="0" t="0" r="0" b="38041"/>
            <a:stretch/>
          </p:blipFill>
          <p:spPr>
            <a:xfrm>
              <a:off x="517320" y="5211720"/>
              <a:ext cx="3515040" cy="2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Line 120"/>
          <p:cNvSpPr/>
          <p:nvPr/>
        </p:nvSpPr>
        <p:spPr>
          <a:xfrm>
            <a:off x="4683240" y="4521240"/>
            <a:ext cx="0" cy="174780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1"/>
          <p:cNvSpPr/>
          <p:nvPr/>
        </p:nvSpPr>
        <p:spPr>
          <a:xfrm>
            <a:off x="6735600" y="520308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66ff33"/>
                </a:solidFill>
                <a:latin typeface="Tw Cen MT"/>
              </a:rPr>
              <a:t>Buz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8:41:52Z</dcterms:created>
  <dc:creator>Inma</dc:creator>
  <dc:description/>
  <dc:language>en-US</dc:language>
  <cp:lastModifiedBy>Inma</cp:lastModifiedBy>
  <dcterms:modified xsi:type="dcterms:W3CDTF">2010-11-25T17:33:55Z</dcterms:modified>
  <cp:revision>7</cp:revision>
  <dc:subject/>
  <dc:title>Tema 11</dc:title>
</cp:coreProperties>
</file>